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wmf" ContentType="image/x-wmf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F003-E666-4F66-BAC9-79AD8687FAC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4C9C-B197-4808-A3E3-B945AF851C4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9C9B-8EFF-46B8-A109-84327F242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18B5-9A12-443B-A558-44131A02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52D4A-DD92-4E4D-ABB3-BFE45F3A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4FA73-AFBD-4802-9954-60CF7B9E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6095B-7280-4177-8BF5-884D7170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30F37-EE8D-4F1A-8FFA-35AA4E7F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6D1DE-C72C-48EB-A9E7-0C20F967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FDE3E-53D4-46A1-BFB2-102B3580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E9772-B65E-4036-9B13-530EEA8F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93744-933A-4766-B7AC-948BEAAF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E4D67-F489-4901-87A4-44E745EA5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19F7-01FF-43D4-89DD-2F0CCBD9A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ABD8-4AEB-45C0-9EDC-5A3A28A3A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D438-37A2-4F23-B8AE-4FED65DA9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A85A-7A3E-464D-AF34-4EF96158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1D7A-3423-48CE-9C3D-3D29F8EC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CC3F-A80C-4860-976D-1A0B22BE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CB91-DF2E-49BD-8BF9-D9751B56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9F2C-1D59-4D98-960E-5D9D3CB3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71DF-3FD5-49F3-A1E1-96F7C332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7194-9779-4F61-B5DA-E95778B8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D4A8-CA7F-48E2-8387-2EA86AA2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4F20-3974-4B45-9BBA-FE1D54AC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85D6-EFCA-45EF-BD78-C2B8BC11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11BF-EBB2-47AF-BE5C-097A83541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BDBB-688D-484A-B760-BCFB12DE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057E3-201C-43BA-AED6-6EAEE193A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476E0-8B52-4A2E-B738-2C29D5C0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88D01-2403-4EA2-907B-928705A2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827B1-C481-40EC-B296-EA4652A7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1E8B7-4482-439D-A66C-3158FF8C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A1AC-0386-493B-96F8-6ED7419E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1843E-54D8-4655-B74F-473B7BDF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816F3-8101-4012-8454-0B48C613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C4ED9-D04A-4A1C-A954-238928BE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FC675-FCF1-4B64-9477-77F8DBEE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98EE4-3C22-4BE4-B6B0-5B4D5E30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EFE36-766D-4444-AB6E-3EFAF5FE8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FC218-CFBD-4A24-A054-706D30D73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57E73-1057-429B-9066-6B336825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8885C-FF3C-4E9F-A073-598F67C9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D5B03-F37E-40B9-8702-559850E5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197C-61F2-4127-AB7B-59331C74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B65C1-5B13-488E-829E-FD6151D3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ECD57-A130-4E37-A5E8-D9C1D792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768AD-646D-4844-B1FE-37D3053E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0AFAF-5F11-4279-835E-697A4D20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D2BB3-C89B-4D0B-9CA4-67259154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01BE4-DB30-4F1F-8473-4851DF82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005FF-D919-4CE8-A795-26E50821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9F3ED-B2F4-454E-819F-B3AE40FA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4C930-5ACF-41C0-BA82-8741046C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6A8D5-A329-459E-B4A5-0E08FC5AE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7834-999D-4F65-988C-59800A96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2498A-404F-45A1-AD9A-B05F4F4C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3B6D9-9CB5-4D65-BD7F-053DA4D3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FD2F9-06C3-4FF8-8AD8-29737557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ADF6A-BAE3-4DFD-A738-963B3E68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B6F0C-564D-4112-9BE9-FAC0CD0A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BDF6A-34C7-4DFB-BC0E-86E87E29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4D984-266E-40DA-9D3C-5AD8D0E4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6E219-5172-44F3-B769-421B9123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E8C40-DB6C-4D6D-A02C-4335000E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2ACBD-C898-4AFF-82AE-802317DCF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3BDE-9E2B-4473-85C0-CB596325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EAB8D-CA13-4D26-A7CF-50B17B3EB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FE3EC-E471-4192-AAA9-58A2F7638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2F45E-C5EC-4DA8-A250-6A40A4B4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95563-F271-460D-B710-5C8FD4F7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AF2ED-E98D-4958-AD4E-143F39A9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59338-DE99-42E9-8A09-B5953643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C1F3D-592A-4EB7-BF93-DF8615F0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16A9D-32CB-419F-91FC-0C75B07F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C8011-34C4-4BD4-8531-A9DE5D15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1380F-6A26-437E-85F7-EF7CEE2D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CE73-68BF-4FA5-A04F-E5BC4997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47F58-E58E-47C7-AD11-45C835BA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21A9C-DD19-4B5E-9250-CBCEAA210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E5EF9-C548-463C-A3E6-16B83EEA2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469B7-0248-40CA-9E51-DEE544244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BFBFF-FEA1-43B5-BA86-3E176B83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971CB-9AFE-4498-992A-C0152ADA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7E4BF-6317-4F0D-849A-66D6112C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927CA-ACF8-490A-9803-077A9B5B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B3D65-A1C8-473F-AF2E-298E784B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ACA8B-D7E5-4B42-BF11-41B16D64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777F-5BF6-4F2A-9327-C95AA481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1FC60-62DA-454D-A5F2-78F62BB5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B3DFE-EF26-41F4-90AD-F52BB60F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10CB1-B3C7-4966-88D5-A259D55E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A4546-442F-4566-90C8-C42BC4A2A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E4CC7-C966-4B23-89B2-8081EEA0A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81244-3B12-466E-AC29-706D8C3A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391B3-4CCD-4B39-80E2-5C2348AC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0BE05-766B-4FAB-8018-142FA527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C06F7-2BA2-418D-AF8A-52F46F45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A512E-42FE-42C9-9F3C-D790DE6F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4D2D-AE10-4F44-A08E-8609962B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AC2B9-C014-47AB-87F4-24CF7A0A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F14FF-F0A1-4C16-B114-63CD6113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0B058-D394-49D4-8B17-FD080459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A3559-6C04-4B47-BCD6-552BF0B2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68957-AA46-4A5A-9625-6B879261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1787D-11BA-4B9D-B530-AD2CC3254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96756-099E-41F0-AAC6-3C8475F2D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C39FB-A0CE-45A5-ADAB-043312C25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47BFA-5CB9-443E-A4FD-E7C405B9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D7212-E901-4D8E-BF82-9F153E1A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Conector reto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Conector reto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192F-F86C-4A3E-B6D4-A59DCC07D52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Conector reto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Conector reto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Conector reto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Conector reto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Conector reto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A1DE-C7F1-4393-9814-99B70FAA21D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Conector reto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Conector reto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Conector reto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Conector reto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Conector reto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Conector reto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0728-D981-4BC0-9632-E7748D30FC7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Conector reto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D015-C29F-472D-90CB-87EF4997099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Conector reto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62A6-D8C4-4E2A-8EE3-3AF943D2A38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72ED-54B4-4481-9E83-3ECFE5366D2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Conector reto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103E-0A44-4237-B9E5-24EB95C8D6E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D860-8673-4169-A8B1-093A844CF1D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6F4E-9A3F-4704-B040-0B41C40015B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4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ítulo 1" descr=""/>
          <p:cNvPicPr/>
          <p:nvPr/>
        </p:nvPicPr>
        <p:blipFill>
          <a:blip r:embed="rId1"/>
          <a:stretch/>
        </p:blipFill>
        <p:spPr>
          <a:xfrm>
            <a:off x="182520" y="3833640"/>
            <a:ext cx="8680320" cy="168912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5286240"/>
            <a:ext cx="8458200" cy="14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Trabalho de Graduação em Ciência da Computação CIn/UFP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Nitai Bezerra da Silva (nbs@cin.ufpe.br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43329"/>
                </a:solidFill>
                <a:latin typeface="Franklin Gothic Book"/>
              </a:rPr>
              <a:t>Orientador: Tsang Ing Ren (tir@cin.ufpe.br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213840" y="1553760"/>
            <a:ext cx="89298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egra de criação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Comece com um anel onde cada nó liga-se com </a:t>
            </a:r>
            <a:r>
              <a:rPr b="0" i="1" lang="en-US" sz="1800" spc="-1" strike="noStrike">
                <a:solidFill>
                  <a:srgbClr val="4e3b30"/>
                </a:solidFill>
                <a:latin typeface="Franklin Gothic Book"/>
              </a:rPr>
              <a:t>k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 dos seus vizinhos mais próximos. Para cada aresta, com pequena probabilidade </a:t>
            </a:r>
            <a:r>
              <a:rPr b="0" i="1" lang="en-US" sz="1800" spc="-1" strike="noStrike">
                <a:solidFill>
                  <a:srgbClr val="4e3b30"/>
                </a:solidFill>
                <a:latin typeface="Franklin Gothic Book"/>
              </a:rPr>
              <a:t>p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 religue uma das extremidades da ligação para qualquer outro nó randomicamente escolhido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ropriedades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istância geodésica média pequen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85760" indent="-217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resce, até, logaritmicamente com o tamanho da red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85760" indent="-217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Na rede randômica o crescimento é linear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oeficiente de agrupamento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85760" indent="-217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Valor muitas vezes maior do que numa rede randômica com mesma quantidade de nós e aresta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7" name="Picture 1" descr=""/>
          <p:cNvPicPr/>
          <p:nvPr/>
        </p:nvPicPr>
        <p:blipFill>
          <a:blip r:embed="rId2"/>
          <a:stretch/>
        </p:blipFill>
        <p:spPr>
          <a:xfrm>
            <a:off x="5419800" y="0"/>
            <a:ext cx="37242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egra de criação: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Inicialmente existe um pequeno número de nós. Em cada passo adiciona-se um novo nó, e </a:t>
            </a:r>
            <a:r>
              <a:rPr b="0" lang="pt-BR" sz="1800" spc="-1" strike="noStrike">
                <a:solidFill>
                  <a:srgbClr val="4e3b30"/>
                </a:solidFill>
                <a:latin typeface="Franklin Gothic Book"/>
              </a:rPr>
              <a:t>é conectado a </a:t>
            </a:r>
            <a:r>
              <a:rPr b="0" i="1" lang="pt-BR" sz="1800" spc="-1" strike="noStrike">
                <a:solidFill>
                  <a:srgbClr val="4e3b30"/>
                </a:solidFill>
                <a:latin typeface="Franklin Gothic Book"/>
              </a:rPr>
              <a:t>m</a:t>
            </a:r>
            <a:r>
              <a:rPr b="0" lang="pt-BR" sz="1800" spc="-1" strike="noStrike">
                <a:solidFill>
                  <a:srgbClr val="4e3b30"/>
                </a:solidFill>
                <a:latin typeface="Franklin Gothic Book"/>
              </a:rPr>
              <a:t> nós existentes, para algum </a:t>
            </a:r>
            <a:r>
              <a:rPr b="0" i="1" lang="pt-BR" sz="1800" spc="-1" strike="noStrike">
                <a:solidFill>
                  <a:srgbClr val="4e3b30"/>
                </a:solidFill>
                <a:latin typeface="Franklin Gothic Book"/>
              </a:rPr>
              <a:t>m</a:t>
            </a:r>
            <a:r>
              <a:rPr b="0" lang="pt-BR" sz="1800" spc="-1" strike="noStrike">
                <a:solidFill>
                  <a:srgbClr val="4e3b30"/>
                </a:solidFill>
                <a:latin typeface="Franklin Gothic Book"/>
              </a:rPr>
              <a:t>. A probabilidade de fazer uma dessas ligações para um nó </a:t>
            </a:r>
            <a:r>
              <a:rPr b="0" i="1" lang="pt-BR" sz="1800" spc="-1" strike="noStrike">
                <a:solidFill>
                  <a:srgbClr val="4e3b30"/>
                </a:solidFill>
                <a:latin typeface="Franklin Gothic Book"/>
              </a:rPr>
              <a:t>i</a:t>
            </a:r>
            <a:r>
              <a:rPr b="0" lang="pt-BR" sz="1800" spc="-1" strike="noStrike">
                <a:solidFill>
                  <a:srgbClr val="4e3b30"/>
                </a:solidFill>
                <a:latin typeface="Franklin Gothic Book"/>
              </a:rPr>
              <a:t> é proporcional ao grau do nó </a:t>
            </a:r>
            <a:r>
              <a:rPr b="0" i="1" lang="pt-BR" sz="1800" spc="-1" strike="noStrike">
                <a:solidFill>
                  <a:srgbClr val="4e3b30"/>
                </a:solidFill>
                <a:latin typeface="Franklin Gothic Book"/>
              </a:rPr>
              <a:t>i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Ligação  preferencial: “</a:t>
            </a:r>
            <a:r>
              <a:rPr b="0" i="1" lang="en-US" sz="2800" spc="-1" strike="noStrike">
                <a:solidFill>
                  <a:srgbClr val="4e3b30"/>
                </a:solidFill>
                <a:latin typeface="Franklin Gothic Book"/>
              </a:rPr>
              <a:t>Ricos ficam mais ricos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”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ropriedades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istribuição do grau seguindo uma lei de potênci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2" name="Picture 3" descr=""/>
          <p:cNvPicPr/>
          <p:nvPr/>
        </p:nvPicPr>
        <p:blipFill>
          <a:blip r:embed="rId2"/>
          <a:stretch/>
        </p:blipFill>
        <p:spPr>
          <a:xfrm>
            <a:off x="1357200" y="5099040"/>
            <a:ext cx="2143080" cy="9730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5" descr=""/>
          <p:cNvPicPr/>
          <p:nvPr/>
        </p:nvPicPr>
        <p:blipFill>
          <a:blip r:embed="rId3"/>
          <a:stretch/>
        </p:blipFill>
        <p:spPr>
          <a:xfrm>
            <a:off x="4429080" y="4672080"/>
            <a:ext cx="348624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Título 1" descr=""/>
          <p:cNvPicPr/>
          <p:nvPr/>
        </p:nvPicPr>
        <p:blipFill>
          <a:blip r:embed="rId1"/>
          <a:stretch/>
        </p:blipFill>
        <p:spPr>
          <a:xfrm>
            <a:off x="158760" y="450720"/>
            <a:ext cx="8839080" cy="101304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456" name="Object 1"/>
          <p:cNvGraphicFramePr/>
          <p:nvPr/>
        </p:nvGraphicFramePr>
        <p:xfrm>
          <a:off x="504720" y="1500120"/>
          <a:ext cx="8210520" cy="478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7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4720" y="1500120"/>
                    <a:ext cx="8210520" cy="47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"/>
          <p:cNvSpPr txBox="1"/>
          <p:nvPr/>
        </p:nvSpPr>
        <p:spPr>
          <a:xfrm>
            <a:off x="5081760" y="1768320"/>
            <a:ext cx="399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uas bases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Usuários Brasileiro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Usuários Indiano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304920" y="1357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mo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Scale Fre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Gráfico de distribuição do grau das duas sub redes seguem leis de potênci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1" name="Gráfico 3" descr=""/>
          <p:cNvPicPr/>
          <p:nvPr/>
        </p:nvPicPr>
        <p:blipFill>
          <a:blip r:embed="rId2"/>
          <a:stretch/>
        </p:blipFill>
        <p:spPr>
          <a:xfrm>
            <a:off x="128520" y="2846520"/>
            <a:ext cx="4314960" cy="3382920"/>
          </a:xfrm>
          <a:prstGeom prst="rect">
            <a:avLst/>
          </a:prstGeom>
          <a:ln w="0">
            <a:noFill/>
          </a:ln>
        </p:spPr>
      </p:pic>
      <p:pic>
        <p:nvPicPr>
          <p:cNvPr id="462" name="Gráfico 4" descr=""/>
          <p:cNvPicPr/>
          <p:nvPr/>
        </p:nvPicPr>
        <p:blipFill>
          <a:blip r:embed="rId3"/>
          <a:stretch/>
        </p:blipFill>
        <p:spPr>
          <a:xfrm>
            <a:off x="4486320" y="2846520"/>
            <a:ext cx="4529160" cy="3382920"/>
          </a:xfrm>
          <a:prstGeom prst="rect">
            <a:avLst/>
          </a:prstGeom>
          <a:ln w="0">
            <a:noFill/>
          </a:ln>
        </p:spPr>
      </p:pic>
      <p:sp>
        <p:nvSpPr>
          <p:cNvPr id="463" name="Espaço Reservado para Conteúdo 2"/>
          <p:cNvSpPr/>
          <p:nvPr/>
        </p:nvSpPr>
        <p:spPr>
          <a:xfrm>
            <a:off x="814320" y="6215040"/>
            <a:ext cx="23288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Brasileiro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Espaço Reservado para Conteúdo 2"/>
          <p:cNvSpPr/>
          <p:nvPr/>
        </p:nvSpPr>
        <p:spPr>
          <a:xfrm>
            <a:off x="5600880" y="6215040"/>
            <a:ext cx="23288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diano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Espaço Reservado para Conteúdo 2"/>
          <p:cNvSpPr/>
          <p:nvPr/>
        </p:nvSpPr>
        <p:spPr>
          <a:xfrm>
            <a:off x="2000160" y="3500280"/>
            <a:ext cx="20433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Franklin Gothic Book"/>
              </a:rPr>
              <a:t>893.295 usuário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6" name="Espaço Reservado para Conteúdo 2"/>
          <p:cNvSpPr/>
          <p:nvPr/>
        </p:nvSpPr>
        <p:spPr>
          <a:xfrm>
            <a:off x="6357960" y="3429000"/>
            <a:ext cx="2286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Franklin Gothic Book"/>
              </a:rPr>
              <a:t>3.133.267</a:t>
            </a:r>
            <a:r>
              <a:rPr b="1" lang="pt-B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Franklin Gothic Book"/>
              </a:rPr>
              <a:t>usuário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7" name="TextBox 1"/>
          <p:cNvSpPr/>
          <p:nvPr/>
        </p:nvSpPr>
        <p:spPr>
          <a:xfrm>
            <a:off x="3637080" y="6161040"/>
            <a:ext cx="17859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Franklin Gothic Book"/>
              </a:rPr>
              <a:t>Grau X Frequência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304920" y="1760400"/>
            <a:ext cx="86868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mo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Small World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eficiente de agrupamento expressivo e distância geodésica média pequen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nclusão: As redes analisadas são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scale free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e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small world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714240" y="2428920"/>
          <a:ext cx="7572600" cy="1711440"/>
        </p:xfrm>
        <a:graphic>
          <a:graphicData uri="http://schemas.openxmlformats.org/drawingml/2006/table">
            <a:tbl>
              <a:tblPr/>
              <a:tblGrid>
                <a:gridCol w="1643040"/>
                <a:gridCol w="1643400"/>
                <a:gridCol w="2143080"/>
                <a:gridCol w="21430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Sub Re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986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Coeficiente de Agrupa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986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Distância geodésica mé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986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Quantidade de nó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986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Brasilei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.18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,14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.935.00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ndi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.34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,77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133.2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 txBox="1"/>
          <p:nvPr/>
        </p:nvSpPr>
        <p:spPr>
          <a:xfrm>
            <a:off x="304920" y="19033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rocesso consiste de duas etapas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Filtrar os nós candidato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eletiva pelos nós com maior probabilidad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Ordenar os nós candidato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Mensurar algumas propriedades (índices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alcular pesos de forma customizada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Ponderar os índices e gerar os resultado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Etapa de Filtra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Selecionar os nós mais provávei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A rede tem </a:t>
            </a:r>
            <a:r>
              <a:rPr b="0" i="1" lang="pt-BR" sz="3200" spc="-1" strike="noStrike">
                <a:solidFill>
                  <a:srgbClr val="4e3b30"/>
                </a:solidFill>
                <a:latin typeface="Franklin Gothic Book"/>
              </a:rPr>
              <a:t>clustering coefficient </a:t>
            </a: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expressivo!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O algorítmo se resume</a:t>
            </a:r>
            <a:br>
              <a:rPr sz="2800"/>
            </a:b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a selecionar os nós com</a:t>
            </a:r>
            <a:br>
              <a:rPr sz="2800"/>
            </a:b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distância geodésica = 2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Espaço Reservado para Conteúdo 2"/>
          <p:cNvSpPr/>
          <p:nvPr/>
        </p:nvSpPr>
        <p:spPr>
          <a:xfrm>
            <a:off x="71280" y="5072040"/>
            <a:ext cx="4929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i="1" lang="pt-BR" sz="2000" spc="-1" strike="noStrike">
                <a:solidFill>
                  <a:srgbClr val="4e3b30"/>
                </a:solidFill>
                <a:latin typeface="Franklin Gothic Book"/>
              </a:rPr>
              <a:t>É mais provável você conhecer um amigo dos seus amigos do que qualquer outra pessoa aleatoriamente” Melanie Mitchel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76" name="Picture 4" descr=""/>
          <p:cNvPicPr/>
          <p:nvPr/>
        </p:nvPicPr>
        <p:blipFill>
          <a:blip r:embed="rId2"/>
          <a:stretch/>
        </p:blipFill>
        <p:spPr>
          <a:xfrm>
            <a:off x="5153040" y="3500280"/>
            <a:ext cx="3728880" cy="314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7" name="Picture 3" descr=""/>
          <p:cNvPicPr/>
          <p:nvPr/>
        </p:nvPicPr>
        <p:blipFill>
          <a:blip r:embed="rId3"/>
          <a:stretch/>
        </p:blipFill>
        <p:spPr>
          <a:xfrm>
            <a:off x="5141880" y="3500280"/>
            <a:ext cx="3740040" cy="315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304920" y="18320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tapa de ordena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Mensurar 3 índic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medidas de relacionamento entre dois nó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ão calculados independentemente  entre o nó central e  cada um dos nós cadidato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alcular os peso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De forma otimizada e customizada para o usuário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3 índic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ada um é uma métrica de relacionamento entre o nó central e o nó candidato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lgumas definiçõ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2428920" y="3857760"/>
            <a:ext cx="4159080" cy="895320"/>
          </a:xfrm>
          <a:prstGeom prst="rect">
            <a:avLst/>
          </a:prstGeom>
          <a:ln w="0">
            <a:noFill/>
          </a:ln>
        </p:spPr>
      </p:pic>
      <p:sp>
        <p:nvSpPr>
          <p:cNvPr id="484" name="Rectangle 3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86" name="Picture 4" descr=""/>
          <p:cNvPicPr/>
          <p:nvPr/>
        </p:nvPicPr>
        <p:blipFill>
          <a:blip r:embed="rId3"/>
          <a:stretch/>
        </p:blipFill>
        <p:spPr>
          <a:xfrm>
            <a:off x="2577960" y="4786200"/>
            <a:ext cx="3851280" cy="123840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6"/>
          <p:cNvSpPr/>
          <p:nvPr/>
        </p:nvSpPr>
        <p:spPr>
          <a:xfrm>
            <a:off x="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8" name="Espaço Reservado para Conteúdo 2"/>
          <p:cNvSpPr/>
          <p:nvPr/>
        </p:nvSpPr>
        <p:spPr>
          <a:xfrm>
            <a:off x="2643120" y="6000840"/>
            <a:ext cx="6643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ranklin Gothic Book"/>
              </a:rPr>
              <a:t>,onde </a:t>
            </a:r>
            <a:r>
              <a:rPr b="0" i="1" lang="pt-BR" sz="2000" spc="-1" strike="noStrike">
                <a:solidFill>
                  <a:srgbClr val="000000"/>
                </a:solidFill>
                <a:latin typeface="Franklin Gothic Book"/>
              </a:rPr>
              <a:t>M</a:t>
            </a:r>
            <a:r>
              <a:rPr b="0" i="1" lang="pt-BR" sz="1400" spc="-1" strike="noStrike">
                <a:solidFill>
                  <a:srgbClr val="000000"/>
                </a:solidFill>
                <a:latin typeface="Franklin Gothic Book"/>
              </a:rPr>
              <a:t>ij</a:t>
            </a:r>
            <a:r>
              <a:rPr b="0" lang="pt-BR" sz="2000" spc="-1" strike="noStrike">
                <a:solidFill>
                  <a:srgbClr val="000000"/>
                </a:solidFill>
                <a:latin typeface="Franklin Gothic Book"/>
              </a:rPr>
              <a:t> é o elemento </a:t>
            </a:r>
            <a:r>
              <a:rPr b="0" i="1" lang="pt-BR" sz="2000" spc="-1" strike="noStrike">
                <a:solidFill>
                  <a:srgbClr val="000000"/>
                </a:solidFill>
                <a:latin typeface="Franklin Gothic Book"/>
              </a:rPr>
              <a:t>ij</a:t>
            </a:r>
            <a:r>
              <a:rPr b="0" lang="pt-BR" sz="2000" spc="-1" strike="noStrike">
                <a:solidFill>
                  <a:srgbClr val="000000"/>
                </a:solidFill>
                <a:latin typeface="Franklin Gothic Book"/>
              </a:rPr>
              <a:t> da matriz de adjacência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9" name="Rectangle 17"/>
          <p:cNvSpPr/>
          <p:nvPr/>
        </p:nvSpPr>
        <p:spPr>
          <a:xfrm>
            <a:off x="4460040" y="-1378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90" name="Picture 16" descr=""/>
          <p:cNvPicPr/>
          <p:nvPr/>
        </p:nvPicPr>
        <p:blipFill>
          <a:blip r:embed="rId4"/>
          <a:stretch/>
        </p:blipFill>
        <p:spPr>
          <a:xfrm>
            <a:off x="0" y="0"/>
            <a:ext cx="219240" cy="36180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18"/>
          <p:cNvSpPr/>
          <p:nvPr/>
        </p:nvSpPr>
        <p:spPr>
          <a:xfrm>
            <a:off x="4444200" y="223920"/>
            <a:ext cx="2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5"/>
          <a:stretch/>
        </p:blipFill>
        <p:spPr>
          <a:xfrm>
            <a:off x="6858000" y="2857680"/>
            <a:ext cx="1949400" cy="1643040"/>
          </a:xfrm>
          <a:prstGeom prst="rect">
            <a:avLst/>
          </a:prstGeom>
          <a:ln w="9360">
            <a:solidFill>
              <a:srgbClr val="f0a22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 txBox="1"/>
          <p:nvPr/>
        </p:nvSpPr>
        <p:spPr>
          <a:xfrm>
            <a:off x="304920" y="1553760"/>
            <a:ext cx="868680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Índice 1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Mede a quantidade de nós adjacentes ao vértice </a:t>
            </a:r>
            <a:r>
              <a:rPr b="0" i="1" lang="en-US" sz="2800" spc="-1" strike="noStrike">
                <a:solidFill>
                  <a:srgbClr val="4e3b30"/>
                </a:solidFill>
                <a:latin typeface="Franklin Gothic Book"/>
              </a:rPr>
              <a:t>i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e ao vértice </a:t>
            </a:r>
            <a:r>
              <a:rPr b="0" i="1" lang="en-US" sz="2800" spc="-1" strike="noStrike">
                <a:solidFill>
                  <a:srgbClr val="4e3b30"/>
                </a:solidFill>
                <a:latin typeface="Franklin Gothic Book"/>
              </a:rPr>
              <a:t>j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ao mesmo tempo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 quantidades de amigos em comum entre a pessoa </a:t>
            </a:r>
            <a:r>
              <a:rPr b="0" i="1" lang="en-US" sz="2800" spc="-1" strike="noStrike">
                <a:solidFill>
                  <a:srgbClr val="4e3b30"/>
                </a:solidFill>
                <a:latin typeface="Franklin Gothic Book"/>
              </a:rPr>
              <a:t>i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e a pessoa </a:t>
            </a:r>
            <a:r>
              <a:rPr b="0" i="1" lang="en-US" sz="2800" spc="-1" strike="noStrike">
                <a:solidFill>
                  <a:srgbClr val="4e3b30"/>
                </a:solidFill>
                <a:latin typeface="Franklin Gothic Book"/>
              </a:rPr>
              <a:t>j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45720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98" name="Picture 4" descr=""/>
          <p:cNvPicPr/>
          <p:nvPr/>
        </p:nvPicPr>
        <p:blipFill>
          <a:blip r:embed="rId2"/>
          <a:stretch/>
        </p:blipFill>
        <p:spPr>
          <a:xfrm>
            <a:off x="1143000" y="2857680"/>
            <a:ext cx="3209760" cy="116352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6"/>
          <p:cNvSpPr/>
          <p:nvPr/>
        </p:nvSpPr>
        <p:spPr>
          <a:xfrm>
            <a:off x="45720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01" name="Object 7"/>
          <p:cNvGraphicFramePr/>
          <p:nvPr/>
        </p:nvGraphicFramePr>
        <p:xfrm>
          <a:off x="4714920" y="1428840"/>
          <a:ext cx="3771720" cy="28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4920" y="1428840"/>
                    <a:ext cx="3771720" cy="2876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214200" y="1554120"/>
            <a:ext cx="877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e3b30"/>
                </a:solidFill>
                <a:latin typeface="Franklin Gothic Book"/>
              </a:rPr>
              <a:t>Problema – Por quê sugerir relacionamentos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e3b30"/>
                </a:solidFill>
                <a:latin typeface="Franklin Gothic Book"/>
              </a:rPr>
              <a:t>Solução – O mecanismo de sugestão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e3b30"/>
                </a:solidFill>
                <a:latin typeface="Franklin Gothic Book"/>
              </a:rPr>
              <a:t>Como – Análise dos padrões de relacionamento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e3b30"/>
                </a:solidFill>
                <a:latin typeface="Franklin Gothic Book"/>
              </a:rPr>
              <a:t>Modelos de redes complexas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e3b30"/>
                </a:solidFill>
                <a:latin typeface="Franklin Gothic Book"/>
              </a:rPr>
              <a:t>Rede social – A 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base de dados e o framework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Processo de caracterização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Mecanismo de Sugestão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698400" indent="-32220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Filtrar e ordenar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Conclusões e Trabalhos Futuro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 txBox="1"/>
          <p:nvPr/>
        </p:nvSpPr>
        <p:spPr>
          <a:xfrm>
            <a:off x="304920" y="1553760"/>
            <a:ext cx="868680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Índice 2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Mede a densidade de adjacência do conjunto medido no índice 1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Quão próximas estão estas pessoa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Para o exempo acima essa medida é 0,5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06" name="Picture 1" descr=""/>
          <p:cNvPicPr/>
          <p:nvPr/>
        </p:nvPicPr>
        <p:blipFill>
          <a:blip r:embed="rId2"/>
          <a:stretch/>
        </p:blipFill>
        <p:spPr>
          <a:xfrm>
            <a:off x="652320" y="2500200"/>
            <a:ext cx="3276720" cy="131472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3"/>
          <p:cNvSpPr/>
          <p:nvPr/>
        </p:nvSpPr>
        <p:spPr>
          <a:xfrm>
            <a:off x="45720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08" name="Picture 4" descr=""/>
          <p:cNvPicPr/>
          <p:nvPr/>
        </p:nvPicPr>
        <p:blipFill>
          <a:blip r:embed="rId3"/>
          <a:stretch/>
        </p:blipFill>
        <p:spPr>
          <a:xfrm>
            <a:off x="4689360" y="1428840"/>
            <a:ext cx="3767400" cy="285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 txBox="1"/>
          <p:nvPr/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Índice 3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Mede a densidade de adjacência do conjunto união entre os dois sub-conjunto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 diferença para o segundo índice é que este considera distâncias geodésicas de tamanho 3, e não somente 2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12" name="Picture 1" descr=""/>
          <p:cNvPicPr/>
          <p:nvPr/>
        </p:nvPicPr>
        <p:blipFill>
          <a:blip r:embed="rId2"/>
          <a:stretch/>
        </p:blipFill>
        <p:spPr>
          <a:xfrm>
            <a:off x="785880" y="2428920"/>
            <a:ext cx="3276360" cy="132408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3"/>
          <p:cNvSpPr/>
          <p:nvPr/>
        </p:nvSpPr>
        <p:spPr>
          <a:xfrm>
            <a:off x="45720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15" name="Object 4"/>
          <p:cNvGraphicFramePr/>
          <p:nvPr/>
        </p:nvGraphicFramePr>
        <p:xfrm>
          <a:off x="4395960" y="1300320"/>
          <a:ext cx="4248000" cy="27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5960" y="1300320"/>
                    <a:ext cx="4248000" cy="2771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onderação otimizad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Utiliza os padrões existentes no conjunto de nós já relacionados ao nó central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Pequena mudança na etapa de filtrar para incluir os nós já relacionado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Utilização de uma função de otimização para calibrar os índic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unção de otimização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alcula a média da posição da classificação dos nós já relacionados ao nó centra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Quanto menor esse valor melhor os nós já relacionados estão sendo classificado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Os nós candidatos mais bem classificados seguem o mesmo padrão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 txBox="1"/>
          <p:nvPr/>
        </p:nvSpPr>
        <p:spPr>
          <a:xfrm>
            <a:off x="304920" y="1554120"/>
            <a:ext cx="868680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Nos experimentos a calibragem foi feita manualmente baseada na função de otimização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Resultados: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928800" y="3286080"/>
          <a:ext cx="7643880" cy="2127240"/>
        </p:xfrm>
        <a:graphic>
          <a:graphicData uri="http://schemas.openxmlformats.org/drawingml/2006/table">
            <a:tbl>
              <a:tblPr/>
              <a:tblGrid>
                <a:gridCol w="1143000"/>
                <a:gridCol w="1000080"/>
                <a:gridCol w="1000080"/>
                <a:gridCol w="1000080"/>
                <a:gridCol w="2000160"/>
                <a:gridCol w="15004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Sub-re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Peso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Peso 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Peso 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Qtd de vértices adjacentes ao vértice cen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Função de otimiz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Brasilei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13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6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ndi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-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-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72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 txBox="1"/>
          <p:nvPr/>
        </p:nvSpPr>
        <p:spPr>
          <a:xfrm>
            <a:off x="304920" y="1760400"/>
            <a:ext cx="8686800" cy="47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O mecanismo de sugestão convergiu como esperado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O aprofundamento no entendimento de redes sociais abre possibilidades para aplicações comerciais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ugestor de produtos em redes de venda pela internet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ugestor de filmes em rede de locadora, etc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Mehorias no mecanismo: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Implementação do mecanismo de calibragem automático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elhoria e criação de mais índices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Outras pesquisas: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Executar mais testes com sub redes de outras regiões geográficas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Utilização do feedback do usuário como medida de ajuste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5" descr=""/>
          <p:cNvPicPr/>
          <p:nvPr/>
        </p:nvPicPr>
        <p:blipFill>
          <a:blip r:embed="rId1"/>
          <a:stretch/>
        </p:blipFill>
        <p:spPr>
          <a:xfrm>
            <a:off x="5072040" y="3714840"/>
            <a:ext cx="3371760" cy="2805120"/>
          </a:xfrm>
          <a:prstGeom prst="rect">
            <a:avLst/>
          </a:prstGeom>
          <a:ln w="9360">
            <a:solidFill>
              <a:srgbClr val="f0a22e"/>
            </a:solidFill>
            <a:miter/>
          </a:ln>
        </p:spPr>
      </p:pic>
      <p:pic>
        <p:nvPicPr>
          <p:cNvPr id="411" name="Título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ede Socia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omposição de usuários (nós) e relacionamentos (arestas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riação dos relacionamentos depende de esforço do usuário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Mecanismo simplista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tividade repetitiv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3"/>
          <a:stretch/>
        </p:blipFill>
        <p:spPr>
          <a:xfrm>
            <a:off x="5072040" y="3714840"/>
            <a:ext cx="3371760" cy="2805120"/>
          </a:xfrm>
          <a:prstGeom prst="rect">
            <a:avLst/>
          </a:prstGeom>
          <a:ln w="9360">
            <a:solidFill>
              <a:srgbClr val="f0a22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920" y="1553760"/>
            <a:ext cx="3695760" cy="16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ecanismo inteligente de sugestão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2"/>
          <a:stretch/>
        </p:blipFill>
        <p:spPr>
          <a:xfrm>
            <a:off x="3995640" y="1357200"/>
            <a:ext cx="4934160" cy="17859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"/>
          <p:cNvPicPr/>
          <p:nvPr/>
        </p:nvPicPr>
        <p:blipFill>
          <a:blip r:embed="rId3"/>
          <a:stretch/>
        </p:blipFill>
        <p:spPr>
          <a:xfrm>
            <a:off x="4079880" y="3976560"/>
            <a:ext cx="4849920" cy="2362320"/>
          </a:xfrm>
          <a:prstGeom prst="rect">
            <a:avLst/>
          </a:prstGeom>
          <a:ln w="0">
            <a:noFill/>
          </a:ln>
        </p:spPr>
      </p:pic>
      <p:sp>
        <p:nvSpPr>
          <p:cNvPr id="418" name="Elipse 7"/>
          <p:cNvSpPr/>
          <p:nvPr/>
        </p:nvSpPr>
        <p:spPr>
          <a:xfrm>
            <a:off x="6500880" y="1785960"/>
            <a:ext cx="1357200" cy="500040"/>
          </a:xfrm>
          <a:prstGeom prst="ellipse">
            <a:avLst/>
          </a:prstGeom>
          <a:noFill/>
          <a:ln w="19080">
            <a:solidFill>
              <a:srgbClr val="ff0000">
                <a:alpha val="5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9" name="Picture 6" descr=""/>
          <p:cNvPicPr/>
          <p:nvPr/>
        </p:nvPicPr>
        <p:blipFill>
          <a:blip r:embed="rId4"/>
          <a:stretch/>
        </p:blipFill>
        <p:spPr>
          <a:xfrm>
            <a:off x="4075200" y="3975120"/>
            <a:ext cx="4835520" cy="23558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7" descr=""/>
          <p:cNvPicPr/>
          <p:nvPr/>
        </p:nvPicPr>
        <p:blipFill>
          <a:blip r:embed="rId5"/>
          <a:stretch/>
        </p:blipFill>
        <p:spPr>
          <a:xfrm>
            <a:off x="4071960" y="3975120"/>
            <a:ext cx="4835520" cy="2355840"/>
          </a:xfrm>
          <a:prstGeom prst="rect">
            <a:avLst/>
          </a:prstGeom>
          <a:ln w="0">
            <a:noFill/>
          </a:ln>
        </p:spPr>
      </p:pic>
      <p:sp>
        <p:nvSpPr>
          <p:cNvPr id="421" name="Espaço Reservado para Conteúdo 2"/>
          <p:cNvSpPr/>
          <p:nvPr/>
        </p:nvSpPr>
        <p:spPr>
          <a:xfrm>
            <a:off x="285840" y="3286080"/>
            <a:ext cx="369576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Benefícios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Particular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2574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rescimento rápido da rede socia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Comunitário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2574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Facilita o crescimento de todas rede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04560" y="1554120"/>
            <a:ext cx="819612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Análise dos padrões de relacionamento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4" name="Picture 5" descr=""/>
          <p:cNvPicPr/>
          <p:nvPr/>
        </p:nvPicPr>
        <p:blipFill>
          <a:blip r:embed="rId2"/>
          <a:stretch/>
        </p:blipFill>
        <p:spPr>
          <a:xfrm>
            <a:off x="3357720" y="3929040"/>
            <a:ext cx="5494320" cy="2676600"/>
          </a:xfrm>
          <a:prstGeom prst="rect">
            <a:avLst/>
          </a:prstGeom>
          <a:ln w="0">
            <a:noFill/>
          </a:ln>
        </p:spPr>
      </p:pic>
      <p:sp>
        <p:nvSpPr>
          <p:cNvPr id="425" name="Espaço Reservado para Conteúdo 2"/>
          <p:cNvSpPr/>
          <p:nvPr/>
        </p:nvSpPr>
        <p:spPr>
          <a:xfrm>
            <a:off x="457200" y="2143080"/>
            <a:ext cx="32576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Verificar padrões existente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3"/>
          <a:stretch/>
        </p:blipFill>
        <p:spPr>
          <a:xfrm>
            <a:off x="3357720" y="3929040"/>
            <a:ext cx="5500440" cy="2679840"/>
          </a:xfrm>
          <a:prstGeom prst="rect">
            <a:avLst/>
          </a:prstGeom>
          <a:ln w="0">
            <a:noFill/>
          </a:ln>
        </p:spPr>
      </p:pic>
      <p:sp>
        <p:nvSpPr>
          <p:cNvPr id="427" name="Espaço Reservado para Conteúdo 2"/>
          <p:cNvSpPr/>
          <p:nvPr/>
        </p:nvSpPr>
        <p:spPr>
          <a:xfrm>
            <a:off x="5143680" y="2143080"/>
            <a:ext cx="32572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Sugerir nós que seguem o padrão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8" name="Picture 6" descr=""/>
          <p:cNvPicPr/>
          <p:nvPr/>
        </p:nvPicPr>
        <p:blipFill>
          <a:blip r:embed="rId4"/>
          <a:stretch/>
        </p:blipFill>
        <p:spPr>
          <a:xfrm>
            <a:off x="3357720" y="3929040"/>
            <a:ext cx="5478480" cy="2668680"/>
          </a:xfrm>
          <a:prstGeom prst="rect">
            <a:avLst/>
          </a:prstGeom>
          <a:ln w="0">
            <a:noFill/>
          </a:ln>
        </p:spPr>
      </p:pic>
      <p:sp>
        <p:nvSpPr>
          <p:cNvPr id="429" name="Espaço Reservado para Conteúdo 2"/>
          <p:cNvSpPr/>
          <p:nvPr/>
        </p:nvSpPr>
        <p:spPr>
          <a:xfrm>
            <a:off x="285840" y="3929040"/>
            <a:ext cx="30002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Quais padrões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entativa de modelar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fenômenos naturais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em estruturas de red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érebro, colônia de formigas, células biológicas, internet, redes sociais, etc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volução dos modelos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Randômico (50’s) por </a:t>
            </a: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Erodos e Rényi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Franklin Gothic Book"/>
              </a:rPr>
              <a:t>Small world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(1998) por </a:t>
            </a: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Watts e Strogatz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Franklin Gothic Book"/>
              </a:rPr>
              <a:t>Scale free 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(1999) por </a:t>
            </a: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Barabási e Albert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odelos caracterizados pela forma em que são criados e pelos vários resultados estatístico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lgumas métricas estatísticas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Grau de um nó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istribuição do grau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4" name="Imagem 3" descr=""/>
          <p:cNvPicPr/>
          <p:nvPr/>
        </p:nvPicPr>
        <p:blipFill>
          <a:blip r:embed="rId2"/>
          <a:stretch/>
        </p:blipFill>
        <p:spPr>
          <a:xfrm>
            <a:off x="4410000" y="4000680"/>
            <a:ext cx="4448160" cy="21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eficiente de agrupamento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35480" indent="-28296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É a probabilidade média de que dois nós vizinhos de outro dado nó são também vizinhos entre si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35480" indent="-28296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35480" indent="-28296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35480" indent="-28296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ropriedade observada com valor grande no mundo rea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8" name="Picture 1" descr=""/>
          <p:cNvPicPr/>
          <p:nvPr/>
        </p:nvPicPr>
        <p:blipFill>
          <a:blip r:embed="rId2"/>
          <a:stretch/>
        </p:blipFill>
        <p:spPr>
          <a:xfrm>
            <a:off x="1849320" y="3286080"/>
            <a:ext cx="5294520" cy="121464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3"/>
          <p:cNvSpPr/>
          <p:nvPr/>
        </p:nvSpPr>
        <p:spPr>
          <a:xfrm>
            <a:off x="0" y="127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Espaço Reservado para Conteúdo 2"/>
          <p:cNvSpPr/>
          <p:nvPr/>
        </p:nvSpPr>
        <p:spPr>
          <a:xfrm>
            <a:off x="3000240" y="5500800"/>
            <a:ext cx="60008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i="1" lang="pt-BR" sz="2000" spc="-1" strike="noStrike">
                <a:solidFill>
                  <a:srgbClr val="4e3b30"/>
                </a:solidFill>
                <a:latin typeface="Franklin Gothic Book"/>
              </a:rPr>
              <a:t>É mais provável você conhecer um amigo dos seus amigos do que qualquer outra pessoa aleatoriamente” Melanie Mitchel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304920" y="1553760"/>
            <a:ext cx="86868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Regra de criação: Cada par de nós está conectado com um probabilidade </a:t>
            </a:r>
            <a:r>
              <a:rPr b="0" i="1" lang="en-US" sz="3000" spc="-1" strike="noStrike">
                <a:solidFill>
                  <a:srgbClr val="4e3b30"/>
                </a:solidFill>
                <a:latin typeface="Franklin Gothic Book"/>
              </a:rPr>
              <a:t>p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 uniforme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As propriedades chaves mostraram ser totalmente diferentes das observadas no mundo real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5143680" y="2643120"/>
            <a:ext cx="3551040" cy="2581200"/>
          </a:xfrm>
          <a:prstGeom prst="rect">
            <a:avLst/>
          </a:prstGeom>
          <a:ln w="0">
            <a:noFill/>
          </a:ln>
        </p:spPr>
      </p:pic>
      <p:sp>
        <p:nvSpPr>
          <p:cNvPr id="444" name="Espaço Reservado para Conteúdo 2"/>
          <p:cNvSpPr/>
          <p:nvPr/>
        </p:nvSpPr>
        <p:spPr>
          <a:xfrm>
            <a:off x="314280" y="2857680"/>
            <a:ext cx="454356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 distribuição do grau é aproximadamente Gaussian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O coeficiente de agrupamento é exatamente </a:t>
            </a:r>
            <a:r>
              <a:rPr b="0" i="1" lang="en-US" sz="2400" spc="-1" strike="noStrike">
                <a:solidFill>
                  <a:srgbClr val="4e3b30"/>
                </a:solidFill>
                <a:latin typeface="Franklin Gothic Book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15:46:27Z</dcterms:created>
  <dc:creator>Nitai</dc:creator>
  <dc:description/>
  <dc:language>en-US</dc:language>
  <cp:lastModifiedBy>pucpr</cp:lastModifiedBy>
  <dcterms:modified xsi:type="dcterms:W3CDTF">2009-03-09T21:08:03Z</dcterms:modified>
  <cp:revision>135</cp:revision>
  <dc:subject/>
  <dc:title>Mecanismo de sugestão e processo de caracterização de redes sociais</dc:title>
</cp:coreProperties>
</file>