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D61-DE8F-4915-BCAA-FAC0CB60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181-A217-4EA9-ACB5-C6ECA662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C2B-20BF-403B-9C43-24C9E16B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C2A-1F9A-405C-AFFF-BCDEAADD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2E35-95CB-4A68-9F36-0D073218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8A10-A4F9-4008-AECD-69340957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1105-AE88-4993-B419-6AAF8F03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F26B-C8E6-4279-A9A7-82E6FF10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5BF1-918C-4814-942A-4FF42F8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8FA8-8CF7-44EF-BA26-161CFB13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8E99-7432-422C-B723-89555B18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A21-6CE1-4FC6-AB2E-D616FCC5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8FF1-F3A4-473A-B0C4-8D00C616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4E7C-8569-41B1-876C-E66BC97F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996D-921E-44C6-B45F-E2E3BC71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03CE-B3FD-4D16-9472-EA9D7DDF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7A54-5C2F-4583-9FFB-6929CDA9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531-21EA-420B-ABA6-26DB98D7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671-9D17-4403-84D3-462C178D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C7E-F6D0-4B62-8C3D-D0797CC4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D2F-E099-4E47-BACB-CFA959BB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CB7-A7E8-4AA5-A657-7E58B27B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EE1-CDF5-4371-A12D-8DFD3D78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93A-65DB-4768-8FEF-2AD779F9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BDFD-CBAD-4B82-9FB5-9AA830CC95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A3DB-64CD-4193-B354-2E108F1290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aper Review - ”Tools for Privacy Preserving Distributed Data Mining” by Chris Clifton, etc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a 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-27-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kit II - Secure Set Un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eal the number of common i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utation used to prevent source 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oolkit III – Secure Size of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t Inters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ecurely compu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tative encryption same as secure union --- To find the common i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07196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62720" y="2106720"/>
                <a:ext cx="1752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ntersect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r>
                          <m:t xml:space="preserve">intersect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kit IV – Scalar Produ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e scalar product of two v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se linear combinations of random numbers to disguise vector 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rties should share a random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ociation rules in horizontally partition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ociation rules in vertically partition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 Clus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= {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…, i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B – a set of trans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– a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ociation rule: An implication of the form             where                 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ind all rules whose support and confidence are higher than a specified minimum support and confi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31964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48720" y="3733920"/>
                <a:ext cx="914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3480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4114800"/>
                <a:ext cx="6858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⊆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733920" y="4114800"/>
                <a:ext cx="685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⊆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862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81480" y="4114800"/>
                <a:ext cx="11430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∩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rizontally partitioned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ctions are distributed among 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idea of FDM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k-1 to construct k-itemset (Apriori Algorith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ly large de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locally large item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the computed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rizontally partitioned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kits to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sum --- to get globally supported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union --- in Itemset Exchang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tically partitioned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ems are partitioned into si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ean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count is the scalar product of the vectors representing the sub-itemsets with both pa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kit - Secure scalar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Trans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section of transaction 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kit – Secure inters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iterative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kit – Secure Sum used here to compute the following three valu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38862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eoff --- intermediate information revealed Vs global result sec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kits  --- Library?  Secure leve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used by some words and mathematics proble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kit – Privacy Preserving Comput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instances of Toolk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s and 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cure union method, is the algorithm distributed or centralize. And what is the sequence of the encrypted union be relay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four methods enough to solve all the problem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es “collusion” mean at he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will evaluate the real results and the extra intermediate inform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it worth sacrificing security for performan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you throw away the decryption key and still tell WHAT the intersection w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M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cy Preserving Mining of distribut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CD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urance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: How to get the statistics of data while keeping the data privac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chniques in Privacy-preserving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mi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lt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s Cooperation Data mining – Cooperate to learn the global data mining results without revealing the data at local sites – Secure Multiparty Com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sted pa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usted pa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olutions to Privacy – preserving data min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solutions to individual privacy-preserving data mining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-preserving distributed computation techniques --- basic computation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ed to solve specific real data mining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kit I – Secure 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46483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kit I – Secure 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ption: Honest pa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uding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Neighb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kit II – Secure Set Un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tative Encryption ( Pohlig-Hellman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5867280" cy="496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3772080"/>
            <a:ext cx="6629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kit II - Secure Set Un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029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7:20:41Z</dcterms:created>
  <dc:creator>Hua Li</dc:creator>
  <dc:description/>
  <dc:language>en-US</dc:language>
  <cp:lastModifiedBy>Hua Li</cp:lastModifiedBy>
  <dcterms:modified xsi:type="dcterms:W3CDTF">2003-10-27T06:40:37Z</dcterms:modified>
  <cp:revision>19</cp:revision>
  <dc:subject/>
  <dc:title>Paper Review - ”Tools for Privacy Preserving Distributed Data Mining” by Chris Clifton, etc.</dc:title>
</cp:coreProperties>
</file>