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028-6013-402A-A565-F7409471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9EF-5003-4C8E-AA64-1630EF5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248-09AD-4791-8EDF-8C0D66C5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540-B35B-4A00-957E-5672B93E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CFC-A120-4F46-BFF3-53C91FDA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467-CB71-40EF-A106-8BECB7F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60F-7A2D-47D1-ADA7-2A718CB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9F7-B48B-4B32-BFB5-307FDBBC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8E4-D88A-4338-A9BA-51C1AC84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2BC-FF31-42C0-B0C6-23304B4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154-4685-49DD-8BFC-607AB5A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1D8-FCF4-459A-80C4-B934FAC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8CEE-181C-44EE-A5B8-CA325B00C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gging Imperfect Predi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an.Zemke@dsv.su.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. of Computer and Systems Sc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holm University/K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sequence of re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 next 5th value by inspecting last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ndex value same day next week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quotes last 2 weeks (= 10 quo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predictors on 125, 250, 50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 Neural Net, Nearest Neighbor, GA-optimized rules (LP), Bayesia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: a number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di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instance: presented to all predi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of all predictors subject to majority voting -- the most common (discre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: reduced variance, promoted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: time-consu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different predictors: bootstrap samples, differ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gging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ging predictors for different methods (ANN, kNN, ILP) and train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improvement for each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est performing methods gain m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gging GA-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N parameters optimized via 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-best compared to bagged GA-better half of final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ged predictor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ging along different methods and training data beats each individ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ging can be applied to GA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inancial applications -- way to avoid overfi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0:41:00Z</dcterms:created>
  <dc:creator>Stefan Zemke</dc:creator>
  <dc:description/>
  <dc:language>en-US</dc:language>
  <cp:lastModifiedBy>Stefan Zemke</cp:lastModifiedBy>
  <cp:lastPrinted>1999-11-05T02:22:12Z</cp:lastPrinted>
  <dcterms:modified xsi:type="dcterms:W3CDTF">2000-05-13T17:30:46Z</dcterms:modified>
  <cp:revision>5</cp:revision>
  <dc:subject/>
  <dc:title>Bagging Imperfect Predi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tefan.Zemke@dsv.su.s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ww\lic\bagging\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