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33E-A780-4503-9FA3-85DF3072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C47-CDDF-48F0-8569-04E78A14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625-80AF-4FE5-BBF7-4AA5827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5AE-5CED-45EE-B731-0D97E20D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358C-FF90-4168-90DF-E87C14B5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355-8330-4B24-BC96-CB23C83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B45-E6D3-46C7-82F5-0A67DD30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3DAD-09A2-46A5-A69D-D1D18A2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D9C-E359-4711-BA12-2BC3712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5849-832E-420F-9C15-676615B2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9BBB-F715-41D3-8FD8-68AD471E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A5B-2BE3-42F6-A969-C9FFA5E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49DB-134F-454C-8814-5406D28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99ED-C3A2-4A3B-B776-1E2C223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E3EF-AD1E-4F21-8B24-B7FBA9B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C214-A48E-4112-9D8B-1B80DC04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AA7B-F2E2-40F0-992C-2039875B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B7B-FD0D-40F4-9D3C-BF41CB7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477-FE3D-4EE7-BB22-8FE99DE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5EE-93E1-4BA1-BB63-84DE119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605-F055-4B03-835B-917C5305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F7A-C7E2-4DAF-9F6B-D7D6CC7E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5BB-88D8-43C9-9884-B6BE8FC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E75-8E0D-4C2F-B9B5-3FF8FDA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B6D-790E-4C2D-9A1A-6EE198FC6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979-457F-4BDC-B51B-8F080C56F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53648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Adaptive Agents in a MUD Environmen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m Schwieder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(onlytrueshweed@hotmail.com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Lukasz Serafin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(lukeserafin@hotmail.com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Brad Stenning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(brad2001@telusplanet.net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Mike Verdone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(mike_verdone@shaw.ca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aculty Advisor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Dr. S. Rochefort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(rochefor@enel.ucalgary.ca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3403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aptive Agent Extens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ints of exte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y the Event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nt Reasoning triggered by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nt Reasoning produces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y Ent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tructures to store agent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y the Thing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nters to new agent state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reverse engineered BFD-MU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und points of exte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lan to design and implement the extensions we descri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lan on putting out…… quality co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t Technology: Over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n Ag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ftware 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omputer opponents in a g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dap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ir behavior depending on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fight or r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D Technology: Over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MU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-User Dunge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around since computers be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 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MUD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ku, LP-M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ts and MUDs –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ogether at La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tate of Agents in MU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ts of Adaptive Agents in a MUD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emonstration of Adaptive Agents in a MUD has never been d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benefit the most from these extens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62880" y="5715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et 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erse Engineering: Over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UD we chose and w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le For Destiny MUD (BFD-MU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-engineer BFD-M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e adaptive agent cap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dules in BFD-MU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5943600" cy="38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5120"/>
                    <a:ext cx="59436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920" y="48769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/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/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tter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patter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atterns capture solutions in a succinct and easily applied form” [Gamma 1995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terns in BFD-M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6859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y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ty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software architectural style … describes how system components interact and work together[Do 2002]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es in BFD-M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yles are better than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22:19:51Z</dcterms:created>
  <dc:creator>Luke S</dc:creator>
  <dc:description/>
  <dc:language>en-US</dc:language>
  <cp:lastModifiedBy>Pink Floyd</cp:lastModifiedBy>
  <dcterms:modified xsi:type="dcterms:W3CDTF">2002-11-18T05:28:30Z</dcterms:modified>
  <cp:revision>20</cp:revision>
  <dc:subject/>
  <dc:title>Adaptive Agents in a MUD Environment</dc:title>
</cp:coreProperties>
</file>