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wmf" ContentType="image/x-wmf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40.wmf" ContentType="image/x-wmf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9079-DC9B-4CD1-957F-17792B9CC06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E181-F34C-459D-A4B7-6D6E7BAAFF2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5501-F908-4831-B621-FADB11A8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0EFB-4B6F-47F3-8922-7F3DDE9D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61A852-695A-48AC-859A-9FB0A3AF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2EA36-81EF-417A-AEF4-15CF1CA5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E63093-7C67-4278-AB61-9AEA467A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3E790-11A8-4C7C-9710-4116B1A4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2583E3-3181-411B-880B-9F41AA41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32921E-9385-44E3-8832-BCCC4BA7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D1606A-B73E-4066-B0AF-B4C43276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C96C10-EF0B-43A6-A5C8-938FAEC01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BFA14-A07B-47B1-A6EF-25982B927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D376-C88A-4AF7-A020-0CA0745DC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B9DB-493F-4B8D-9AC0-637DA0668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8D7D-37D6-4C20-B85F-64A2E33B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189C-8D09-4EA7-9E17-5CEAC887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B196-391A-4DAA-8DBA-BC7D4557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5882-EA9E-44F4-9090-CCEE57F7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D9F4-3A42-42F2-9315-78F7ECA5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701C-C4DA-4A17-94BD-C6A98990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E447-9DB6-4B26-A3C6-1CFFCF7E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B6DB-99E4-4F22-8085-49FAA8BC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F1A6-E7DD-41BE-93B4-FBE40151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F5EF-1C96-4567-9596-DD93294D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D85C-BC73-4940-B387-7DE84D84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2FF7-AB3C-4060-878E-B08E38E00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95E7-A05F-4AE1-9AF8-054F3D71B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4D4B3-3C47-4690-B5CD-AC4D204A8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9C313-8D03-4C48-8B35-CF5F547E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5FF82-87A3-41B4-A048-9F17F1EA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E4B57-EEBE-4232-A1DB-6C239010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490D1-77C6-40EC-B330-D227FC32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26E3-3741-4EF2-B2AD-A74AF797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5839A-6C17-41E7-A9DD-125ED92BA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16AC2-CD02-44AC-B041-F37F44A4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1B5D7-3D41-443F-A0C8-1E8D455C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EC502-4224-4793-ABE4-4EEF729C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AAEA9-1372-41F6-B055-CEA1FE0C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19B39-CC04-4515-BB67-F2F13084E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C82F5-2930-4E8D-A11E-2B1D0184B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D6657-D3A1-472B-B49A-B3FCB9879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B7C45-3175-4104-98F9-CD6E8D19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B33B0-BD3B-459D-9DDC-037FE0F2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2D9A-85F3-4D1D-8A61-55C5338A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11F30-724C-4061-8F14-97F886DA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C6F06-B8F3-459A-A9A9-1ABC4581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E94BB-DEB2-4E3F-AA17-F3A9E1E5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3F59E-93A7-47A0-93D6-8AAA5F5B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AD76C-B62B-421B-972A-3A218D45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6FB70-2073-4AA8-97BF-DE602892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7106C-3B03-43D7-8126-5B97064C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160CD-EE20-4B32-806E-F8238BBCA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BDE22-D793-47D9-A5B0-6232E2DED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56870-8421-4748-AEA5-D72DC4D86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35ED-1D86-4D17-84ED-A3102E23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50324-1AE5-4EDA-8B1E-2FF8F006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ED8027-5018-4A85-B33F-AC3738E8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3D0AC-7720-4E32-8232-3776ECEB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D563D-AF4D-4E2D-AC68-396FF656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54227-CF34-4ABA-96BD-744431C8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92661-283F-46ED-9A45-B3DE4528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EB69C-0517-436A-B63B-4F1A58BC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470D4-97A0-4AB5-A658-EAD11F9F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C086F-AFC2-4111-8512-9A74F42D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220C0-F023-4D52-A40A-A4BBC17A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9E1C-3298-46A9-8813-BB1536D7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A545B-0C4F-4802-AE3A-744745E9D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861C4-9AC5-4424-9B5C-9E7A12F5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0A4E8-4A1F-4846-9BE6-00327B9D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3528E-AE9C-4E86-927E-52258948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3B855-7CC3-4E72-BB5F-B541F6AD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90F56-F684-4EB8-B451-649E56F2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2154A-0898-40F8-97FB-7F61E262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2E2CC-F5F6-461C-9C18-0776CA13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701D2-7495-4579-9202-812E2CD4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C3BBE-79B5-40C3-967C-557C75E9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BDA3-DF28-41C0-B0BE-B831E720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2F1C1-281C-41BD-9287-E2573A07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3376D-977D-48B6-A8EA-AD87F3731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CBABF-2E99-4B3E-83A9-655B039A5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B4FCB-93D5-410F-9900-215ED06EB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8F4EB-2ED8-4FA3-B3B5-33130AF4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EE06D-8F05-4D1F-B699-4309E464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AF87F1-C2CE-46BA-937A-704422D9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25A4E-0C78-4B9A-9413-8B5981AC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AD107-6C9F-45C4-883F-7F596A65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33978-CB43-4170-B906-03B6E054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77BC-7ECC-4529-BF7D-29E72E07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3DB68-2986-4ADE-A007-1DC56C5F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A2694-4822-4964-A5AB-9D54493B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16353-C84C-469D-9E40-414F5DEC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9E99B-2DDC-4F68-91F7-F4BA7EA23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1BC5C-E87B-42BE-9AC9-3C070B41E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337D8-5959-4615-A9CD-4B1FFF1CA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C58CBA-3DF7-40FA-9374-C07EA721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CEE6F-4AF8-41A7-B82F-CBBA0481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70144-11B6-471A-A4C5-C792EE63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BC986-B200-4C7E-8593-D3A0AD7A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CA06-E366-43F2-A41E-AB58ADEC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7E53A-3A38-4976-9D12-10713CA3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972A6-7036-465E-9D16-869738A8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FFED9-0EE2-4DCF-A2DF-6ECDF5AB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E50EC-489F-41E8-8413-AE13B1474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5085E-A404-4447-A479-B62D8BFE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CBDCB-FFC9-4479-A6E8-3A13F8519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6D138-3FB2-4DFE-9FC2-6A618CD0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C69EA-5204-4CE9-9437-2402A6A67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9C5281-A3AF-449E-93B5-8461D656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37FEC-140A-469A-8960-F553F8D9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Conector reto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Conector reto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A717-FC9C-476D-8E25-B7AE42AF773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Conector reto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Conector reto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Conector reto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Conector reto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Conector reto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Conector reto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4F58-078C-4F96-8DB2-9683B99374F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Conector reto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Conector reto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Conector reto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Conector reto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Conector reto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Conector reto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EF190-896F-44AA-B5DC-0AD17177319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Conector reto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Conector reto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864A-3DA6-49DA-95CC-3A1ED719B5F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Conector reto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Conector reto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4121-3D41-4A69-8A92-63D65004456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264E-CF33-4BB8-A321-4BAE73DD8C9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Conector reto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Conector reto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3492-9B90-48D8-A069-B5DA4F37736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B578-CEE5-4316-81D8-C977444F440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8247-43B5-446C-A43B-3BAAA64A58A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4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ítulo 1" descr=""/>
          <p:cNvPicPr/>
          <p:nvPr/>
        </p:nvPicPr>
        <p:blipFill>
          <a:blip r:embed="rId1"/>
          <a:stretch/>
        </p:blipFill>
        <p:spPr>
          <a:xfrm>
            <a:off x="182520" y="3833640"/>
            <a:ext cx="8680320" cy="168912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80520" y="5286240"/>
            <a:ext cx="8458200" cy="14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Trabalho de Graduação em Ciência da Computação CIn/UFP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Nitai Bezerra da Silva (nbs@cin.ufpe.br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43329"/>
                </a:solidFill>
                <a:latin typeface="Franklin Gothic Book"/>
              </a:rPr>
              <a:t>Orientador: Tsang Ing Ren (tir@cin.ufpe.br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 txBox="1"/>
          <p:nvPr/>
        </p:nvSpPr>
        <p:spPr>
          <a:xfrm>
            <a:off x="213840" y="1553760"/>
            <a:ext cx="89298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egra de criação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Comece com um anel onde cada nó liga-se com </a:t>
            </a:r>
            <a:r>
              <a:rPr b="0" i="1" lang="en-US" sz="1800" spc="-1" strike="noStrike">
                <a:solidFill>
                  <a:srgbClr val="4e3b30"/>
                </a:solidFill>
                <a:latin typeface="Franklin Gothic Book"/>
              </a:rPr>
              <a:t>k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 dos seus vizinhos mais próximos. Para cada aresta, com pequena probabilidade </a:t>
            </a:r>
            <a:r>
              <a:rPr b="0" i="1" lang="en-US" sz="1800" spc="-1" strike="noStrike">
                <a:solidFill>
                  <a:srgbClr val="4e3b30"/>
                </a:solidFill>
                <a:latin typeface="Franklin Gothic Book"/>
              </a:rPr>
              <a:t>p</a:t>
            </a: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 religue uma das extremidades da ligação para qualquer outro nó randomicamente escolhido.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ropriedades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istância geodésica média pequen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85760" indent="-217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resce, até, logaritmicamente com o tamanho da red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85760" indent="-217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Na rede randômica o crescimento é linear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oeficiente de agrupamento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085760" indent="-217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Valor muitas vezes maior do que numa rede randômica com mesma quantidade de nós e aresta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7" name="Picture 1" descr=""/>
          <p:cNvPicPr/>
          <p:nvPr/>
        </p:nvPicPr>
        <p:blipFill>
          <a:blip r:embed="rId2"/>
          <a:stretch/>
        </p:blipFill>
        <p:spPr>
          <a:xfrm>
            <a:off x="5419800" y="0"/>
            <a:ext cx="372420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egra de criação: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e3b30"/>
                </a:solidFill>
                <a:latin typeface="Franklin Gothic Book"/>
              </a:rPr>
              <a:t>Inicialmente existe um pequeno número de nós. Em cada passo adiciona-se um novo nó, e </a:t>
            </a:r>
            <a:r>
              <a:rPr b="0" lang="pt-BR" sz="1800" spc="-1" strike="noStrike">
                <a:solidFill>
                  <a:srgbClr val="4e3b30"/>
                </a:solidFill>
                <a:latin typeface="Franklin Gothic Book"/>
              </a:rPr>
              <a:t>é conectado a </a:t>
            </a:r>
            <a:r>
              <a:rPr b="0" i="1" lang="pt-BR" sz="1800" spc="-1" strike="noStrike">
                <a:solidFill>
                  <a:srgbClr val="4e3b30"/>
                </a:solidFill>
                <a:latin typeface="Franklin Gothic Book"/>
              </a:rPr>
              <a:t>m</a:t>
            </a:r>
            <a:r>
              <a:rPr b="0" lang="pt-BR" sz="1800" spc="-1" strike="noStrike">
                <a:solidFill>
                  <a:srgbClr val="4e3b30"/>
                </a:solidFill>
                <a:latin typeface="Franklin Gothic Book"/>
              </a:rPr>
              <a:t> nós existentes, para algum </a:t>
            </a:r>
            <a:r>
              <a:rPr b="0" i="1" lang="pt-BR" sz="1800" spc="-1" strike="noStrike">
                <a:solidFill>
                  <a:srgbClr val="4e3b30"/>
                </a:solidFill>
                <a:latin typeface="Franklin Gothic Book"/>
              </a:rPr>
              <a:t>m</a:t>
            </a:r>
            <a:r>
              <a:rPr b="0" lang="pt-BR" sz="1800" spc="-1" strike="noStrike">
                <a:solidFill>
                  <a:srgbClr val="4e3b30"/>
                </a:solidFill>
                <a:latin typeface="Franklin Gothic Book"/>
              </a:rPr>
              <a:t>. A probabilidade de fazer uma dessas ligações para um nó </a:t>
            </a:r>
            <a:r>
              <a:rPr b="0" i="1" lang="pt-BR" sz="1800" spc="-1" strike="noStrike">
                <a:solidFill>
                  <a:srgbClr val="4e3b30"/>
                </a:solidFill>
                <a:latin typeface="Franklin Gothic Book"/>
              </a:rPr>
              <a:t>i</a:t>
            </a:r>
            <a:r>
              <a:rPr b="0" lang="pt-BR" sz="1800" spc="-1" strike="noStrike">
                <a:solidFill>
                  <a:srgbClr val="4e3b30"/>
                </a:solidFill>
                <a:latin typeface="Franklin Gothic Book"/>
              </a:rPr>
              <a:t> é proporcional ao grau do nó </a:t>
            </a:r>
            <a:r>
              <a:rPr b="0" i="1" lang="pt-BR" sz="1800" spc="-1" strike="noStrike">
                <a:solidFill>
                  <a:srgbClr val="4e3b30"/>
                </a:solidFill>
                <a:latin typeface="Franklin Gothic Book"/>
              </a:rPr>
              <a:t>i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Ligação  preferencial: “</a:t>
            </a:r>
            <a:r>
              <a:rPr b="0" i="1" lang="en-US" sz="2800" spc="-1" strike="noStrike">
                <a:solidFill>
                  <a:srgbClr val="4e3b30"/>
                </a:solidFill>
                <a:latin typeface="Franklin Gothic Book"/>
              </a:rPr>
              <a:t>Ricos ficam mais ricos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”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ropriedades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istribuição do grau seguindo uma lei de potênci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2" name="Picture 3" descr=""/>
          <p:cNvPicPr/>
          <p:nvPr/>
        </p:nvPicPr>
        <p:blipFill>
          <a:blip r:embed="rId2"/>
          <a:stretch/>
        </p:blipFill>
        <p:spPr>
          <a:xfrm>
            <a:off x="1357200" y="5099040"/>
            <a:ext cx="2143080" cy="9730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5" descr=""/>
          <p:cNvPicPr/>
          <p:nvPr/>
        </p:nvPicPr>
        <p:blipFill>
          <a:blip r:embed="rId3"/>
          <a:stretch/>
        </p:blipFill>
        <p:spPr>
          <a:xfrm>
            <a:off x="4429080" y="4672080"/>
            <a:ext cx="3486240" cy="20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Título 1" descr=""/>
          <p:cNvPicPr/>
          <p:nvPr/>
        </p:nvPicPr>
        <p:blipFill>
          <a:blip r:embed="rId1"/>
          <a:stretch/>
        </p:blipFill>
        <p:spPr>
          <a:xfrm>
            <a:off x="158760" y="450720"/>
            <a:ext cx="8839080" cy="1013040"/>
          </a:xfrm>
          <a:prstGeom prst="rect">
            <a:avLst/>
          </a:prstGeom>
          <a:ln w="0">
            <a:noFill/>
          </a:ln>
        </p:spPr>
      </p:pic>
      <p:sp>
        <p:nvSpPr>
          <p:cNvPr id="4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456" name="Object 1"/>
          <p:cNvGraphicFramePr/>
          <p:nvPr/>
        </p:nvGraphicFramePr>
        <p:xfrm>
          <a:off x="504720" y="1500120"/>
          <a:ext cx="8210520" cy="478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7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4720" y="1500120"/>
                    <a:ext cx="8210520" cy="47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"/>
          <p:cNvSpPr txBox="1"/>
          <p:nvPr/>
        </p:nvSpPr>
        <p:spPr>
          <a:xfrm>
            <a:off x="5081760" y="1768320"/>
            <a:ext cx="3990960" cy="25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Duas bases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Usuários Brasileiro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Usuários Indiano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304920" y="1357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mo 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Scale Fre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Gráfico de distribuição do grau das duas sub redes seguem leis de potênci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1" name="Gráfico 3" descr=""/>
          <p:cNvPicPr/>
          <p:nvPr/>
        </p:nvPicPr>
        <p:blipFill>
          <a:blip r:embed="rId2"/>
          <a:stretch/>
        </p:blipFill>
        <p:spPr>
          <a:xfrm>
            <a:off x="128520" y="2846520"/>
            <a:ext cx="4314960" cy="3382920"/>
          </a:xfrm>
          <a:prstGeom prst="rect">
            <a:avLst/>
          </a:prstGeom>
          <a:ln w="0">
            <a:noFill/>
          </a:ln>
        </p:spPr>
      </p:pic>
      <p:pic>
        <p:nvPicPr>
          <p:cNvPr id="462" name="Gráfico 4" descr=""/>
          <p:cNvPicPr/>
          <p:nvPr/>
        </p:nvPicPr>
        <p:blipFill>
          <a:blip r:embed="rId3"/>
          <a:stretch/>
        </p:blipFill>
        <p:spPr>
          <a:xfrm>
            <a:off x="4486320" y="2846520"/>
            <a:ext cx="4529160" cy="3382920"/>
          </a:xfrm>
          <a:prstGeom prst="rect">
            <a:avLst/>
          </a:prstGeom>
          <a:ln w="0">
            <a:noFill/>
          </a:ln>
        </p:spPr>
      </p:pic>
      <p:sp>
        <p:nvSpPr>
          <p:cNvPr id="463" name="Espaço Reservado para Conteúdo 2"/>
          <p:cNvSpPr/>
          <p:nvPr/>
        </p:nvSpPr>
        <p:spPr>
          <a:xfrm>
            <a:off x="814320" y="6215040"/>
            <a:ext cx="23288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Brasileiros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Espaço Reservado para Conteúdo 2"/>
          <p:cNvSpPr/>
          <p:nvPr/>
        </p:nvSpPr>
        <p:spPr>
          <a:xfrm>
            <a:off x="5600880" y="6215040"/>
            <a:ext cx="23288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Indianos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Espaço Reservado para Conteúdo 2"/>
          <p:cNvSpPr/>
          <p:nvPr/>
        </p:nvSpPr>
        <p:spPr>
          <a:xfrm>
            <a:off x="2000160" y="3500280"/>
            <a:ext cx="20433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Franklin Gothic Book"/>
              </a:rPr>
              <a:t>893.295 usuário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6" name="Espaço Reservado para Conteúdo 2"/>
          <p:cNvSpPr/>
          <p:nvPr/>
        </p:nvSpPr>
        <p:spPr>
          <a:xfrm>
            <a:off x="6357960" y="3429000"/>
            <a:ext cx="2286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Franklin Gothic Book"/>
              </a:rPr>
              <a:t>3.133.267</a:t>
            </a:r>
            <a:r>
              <a:rPr b="1" lang="pt-B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Franklin Gothic Book"/>
              </a:rPr>
              <a:t>usuário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7" name="TextBox 1"/>
          <p:cNvSpPr/>
          <p:nvPr/>
        </p:nvSpPr>
        <p:spPr>
          <a:xfrm>
            <a:off x="3637080" y="6161040"/>
            <a:ext cx="17859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Franklin Gothic Book"/>
              </a:rPr>
              <a:t>Grau X Frequência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304920" y="1760400"/>
            <a:ext cx="86868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mo 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Small World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eficiente de agrupamento expressivo e distância geodésica média pequen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nclusão: As redes analisadas são 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scale free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e </a:t>
            </a:r>
            <a:r>
              <a:rPr b="0" i="1" lang="en-US" sz="3200" spc="-1" strike="noStrike">
                <a:solidFill>
                  <a:srgbClr val="4e3b30"/>
                </a:solidFill>
                <a:latin typeface="Franklin Gothic Book"/>
              </a:rPr>
              <a:t>small world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714240" y="2428920"/>
          <a:ext cx="7572600" cy="1711440"/>
        </p:xfrm>
        <a:graphic>
          <a:graphicData uri="http://schemas.openxmlformats.org/drawingml/2006/table">
            <a:tbl>
              <a:tblPr/>
              <a:tblGrid>
                <a:gridCol w="1643040"/>
                <a:gridCol w="1643400"/>
                <a:gridCol w="2143080"/>
                <a:gridCol w="21430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Sub Re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986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Coeficiente de Agrupam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986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Distância geodésica mé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986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Quantidade de nó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3986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Brasilei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d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.18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d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,14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d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.935.00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ddd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ndi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0.34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,77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.133.2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5efe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 txBox="1"/>
          <p:nvPr/>
        </p:nvSpPr>
        <p:spPr>
          <a:xfrm>
            <a:off x="304920" y="19033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rocesso consiste de duas etapas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Filtrar os nós candidato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eletiva pelos nós com maior probabilidade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Ordenar os nós candidato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Mensurar algumas propriedades (índices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alcular pesos de forma customizada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Ponderar os índices e gerar os resultado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Etapa de Filtra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Selecionar os nós mais provávei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A rede tem </a:t>
            </a:r>
            <a:r>
              <a:rPr b="0" i="1" lang="pt-BR" sz="3200" spc="-1" strike="noStrike">
                <a:solidFill>
                  <a:srgbClr val="4e3b30"/>
                </a:solidFill>
                <a:latin typeface="Franklin Gothic Book"/>
              </a:rPr>
              <a:t>clustering coefficient </a:t>
            </a: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expressivo!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O algorítmo se resume</a:t>
            </a:r>
            <a:br>
              <a:rPr sz="2800"/>
            </a:b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a selecionar os nós com</a:t>
            </a:r>
            <a:br>
              <a:rPr sz="2800"/>
            </a:b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distância geodésica = 2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5" name="Espaço Reservado para Conteúdo 2"/>
          <p:cNvSpPr/>
          <p:nvPr/>
        </p:nvSpPr>
        <p:spPr>
          <a:xfrm>
            <a:off x="71280" y="5072040"/>
            <a:ext cx="4929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i="1" lang="pt-BR" sz="2000" spc="-1" strike="noStrike">
                <a:solidFill>
                  <a:srgbClr val="4e3b30"/>
                </a:solidFill>
                <a:latin typeface="Franklin Gothic Book"/>
              </a:rPr>
              <a:t>É mais provável você conhecer um amigo dos seus amigos do que qualquer outra pessoa aleatoriamente” Melanie Mitchel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76" name="Picture 4" descr=""/>
          <p:cNvPicPr/>
          <p:nvPr/>
        </p:nvPicPr>
        <p:blipFill>
          <a:blip r:embed="rId2"/>
          <a:stretch/>
        </p:blipFill>
        <p:spPr>
          <a:xfrm>
            <a:off x="5153040" y="3500280"/>
            <a:ext cx="3728880" cy="314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7" name="Picture 3" descr=""/>
          <p:cNvPicPr/>
          <p:nvPr/>
        </p:nvPicPr>
        <p:blipFill>
          <a:blip r:embed="rId3"/>
          <a:stretch/>
        </p:blipFill>
        <p:spPr>
          <a:xfrm>
            <a:off x="5141880" y="3500280"/>
            <a:ext cx="3740040" cy="315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304920" y="18320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tapa de ordena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Mensurar 3 índice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medidas de relacionamento entre dois nó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São calculados independentemente  entre o nó central e  cada um dos nós cadidato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alcular os peso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De forma otimizada e customizada para o usuário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3 índic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ada um é uma métrica de relacionamento entre o nó central e o nó candidato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lgumas definiçõ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2428920" y="3857760"/>
            <a:ext cx="4159080" cy="895320"/>
          </a:xfrm>
          <a:prstGeom prst="rect">
            <a:avLst/>
          </a:prstGeom>
          <a:ln w="0">
            <a:noFill/>
          </a:ln>
        </p:spPr>
      </p:pic>
      <p:sp>
        <p:nvSpPr>
          <p:cNvPr id="484" name="Rectangle 3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86" name="Picture 4" descr=""/>
          <p:cNvPicPr/>
          <p:nvPr/>
        </p:nvPicPr>
        <p:blipFill>
          <a:blip r:embed="rId3"/>
          <a:stretch/>
        </p:blipFill>
        <p:spPr>
          <a:xfrm>
            <a:off x="2577960" y="4786200"/>
            <a:ext cx="3851280" cy="1238400"/>
          </a:xfrm>
          <a:prstGeom prst="rect">
            <a:avLst/>
          </a:prstGeom>
          <a:ln w="0">
            <a:noFill/>
          </a:ln>
        </p:spPr>
      </p:pic>
      <p:sp>
        <p:nvSpPr>
          <p:cNvPr id="487" name="Rectangle 6"/>
          <p:cNvSpPr/>
          <p:nvPr/>
        </p:nvSpPr>
        <p:spPr>
          <a:xfrm>
            <a:off x="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8" name="Espaço Reservado para Conteúdo 2"/>
          <p:cNvSpPr/>
          <p:nvPr/>
        </p:nvSpPr>
        <p:spPr>
          <a:xfrm>
            <a:off x="2643120" y="6000840"/>
            <a:ext cx="6643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Franklin Gothic Book"/>
              </a:rPr>
              <a:t>,onde </a:t>
            </a:r>
            <a:r>
              <a:rPr b="0" i="1" lang="pt-BR" sz="2000" spc="-1" strike="noStrike">
                <a:solidFill>
                  <a:srgbClr val="000000"/>
                </a:solidFill>
                <a:latin typeface="Franklin Gothic Book"/>
              </a:rPr>
              <a:t>M</a:t>
            </a:r>
            <a:r>
              <a:rPr b="0" i="1" lang="pt-BR" sz="1400" spc="-1" strike="noStrike">
                <a:solidFill>
                  <a:srgbClr val="000000"/>
                </a:solidFill>
                <a:latin typeface="Franklin Gothic Book"/>
              </a:rPr>
              <a:t>ij</a:t>
            </a:r>
            <a:r>
              <a:rPr b="0" lang="pt-BR" sz="2000" spc="-1" strike="noStrike">
                <a:solidFill>
                  <a:srgbClr val="000000"/>
                </a:solidFill>
                <a:latin typeface="Franklin Gothic Book"/>
              </a:rPr>
              <a:t> é o elemento </a:t>
            </a:r>
            <a:r>
              <a:rPr b="0" i="1" lang="pt-BR" sz="2000" spc="-1" strike="noStrike">
                <a:solidFill>
                  <a:srgbClr val="000000"/>
                </a:solidFill>
                <a:latin typeface="Franklin Gothic Book"/>
              </a:rPr>
              <a:t>ij</a:t>
            </a:r>
            <a:r>
              <a:rPr b="0" lang="pt-BR" sz="2000" spc="-1" strike="noStrike">
                <a:solidFill>
                  <a:srgbClr val="000000"/>
                </a:solidFill>
                <a:latin typeface="Franklin Gothic Book"/>
              </a:rPr>
              <a:t> da matriz de adjacência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9" name="Rectangle 17"/>
          <p:cNvSpPr/>
          <p:nvPr/>
        </p:nvSpPr>
        <p:spPr>
          <a:xfrm>
            <a:off x="4460040" y="-1378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90" name="Picture 16" descr=""/>
          <p:cNvPicPr/>
          <p:nvPr/>
        </p:nvPicPr>
        <p:blipFill>
          <a:blip r:embed="rId4"/>
          <a:stretch/>
        </p:blipFill>
        <p:spPr>
          <a:xfrm>
            <a:off x="0" y="0"/>
            <a:ext cx="219240" cy="36180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18"/>
          <p:cNvSpPr/>
          <p:nvPr/>
        </p:nvSpPr>
        <p:spPr>
          <a:xfrm>
            <a:off x="4444200" y="223920"/>
            <a:ext cx="25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5"/>
          <a:stretch/>
        </p:blipFill>
        <p:spPr>
          <a:xfrm>
            <a:off x="6858000" y="2857680"/>
            <a:ext cx="1949400" cy="1643040"/>
          </a:xfrm>
          <a:prstGeom prst="rect">
            <a:avLst/>
          </a:prstGeom>
          <a:ln w="9360">
            <a:solidFill>
              <a:srgbClr val="f0a22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 txBox="1"/>
          <p:nvPr/>
        </p:nvSpPr>
        <p:spPr>
          <a:xfrm>
            <a:off x="304920" y="1553760"/>
            <a:ext cx="868680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Índice 1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Mede a quantidade de nós adjacentes ao vértice </a:t>
            </a:r>
            <a:r>
              <a:rPr b="0" i="1" lang="en-US" sz="2800" spc="-1" strike="noStrike">
                <a:solidFill>
                  <a:srgbClr val="4e3b30"/>
                </a:solidFill>
                <a:latin typeface="Franklin Gothic Book"/>
              </a:rPr>
              <a:t>i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e ao vértice </a:t>
            </a:r>
            <a:r>
              <a:rPr b="0" i="1" lang="en-US" sz="2800" spc="-1" strike="noStrike">
                <a:solidFill>
                  <a:srgbClr val="4e3b30"/>
                </a:solidFill>
                <a:latin typeface="Franklin Gothic Book"/>
              </a:rPr>
              <a:t>j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ao mesmo tempo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 quantidades de amigos em comum entre a pessoa </a:t>
            </a:r>
            <a:r>
              <a:rPr b="0" i="1" lang="en-US" sz="2800" spc="-1" strike="noStrike">
                <a:solidFill>
                  <a:srgbClr val="4e3b30"/>
                </a:solidFill>
                <a:latin typeface="Franklin Gothic Book"/>
              </a:rPr>
              <a:t>i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e a pessoa </a:t>
            </a:r>
            <a:r>
              <a:rPr b="0" i="1" lang="en-US" sz="2800" spc="-1" strike="noStrike">
                <a:solidFill>
                  <a:srgbClr val="4e3b30"/>
                </a:solidFill>
                <a:latin typeface="Franklin Gothic Book"/>
              </a:rPr>
              <a:t>j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45720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98" name="Picture 4" descr=""/>
          <p:cNvPicPr/>
          <p:nvPr/>
        </p:nvPicPr>
        <p:blipFill>
          <a:blip r:embed="rId2"/>
          <a:stretch/>
        </p:blipFill>
        <p:spPr>
          <a:xfrm>
            <a:off x="1143000" y="2857680"/>
            <a:ext cx="3209760" cy="116352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6"/>
          <p:cNvSpPr/>
          <p:nvPr/>
        </p:nvSpPr>
        <p:spPr>
          <a:xfrm>
            <a:off x="457200" y="19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501" name="Object 7"/>
          <p:cNvGraphicFramePr/>
          <p:nvPr/>
        </p:nvGraphicFramePr>
        <p:xfrm>
          <a:off x="4714920" y="1428840"/>
          <a:ext cx="3771720" cy="28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4920" y="1428840"/>
                    <a:ext cx="3771720" cy="2876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214200" y="1554120"/>
            <a:ext cx="877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e3b30"/>
                </a:solidFill>
                <a:latin typeface="Franklin Gothic Book"/>
              </a:rPr>
              <a:t>Problema – Por quê sugerir relacionamentos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e3b30"/>
                </a:solidFill>
                <a:latin typeface="Franklin Gothic Book"/>
              </a:rPr>
              <a:t>Solução – O mecanismo de sugestão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e3b30"/>
                </a:solidFill>
                <a:latin typeface="Franklin Gothic Book"/>
              </a:rPr>
              <a:t>Como – Análise dos padrões de relacionamento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8400" indent="-26856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e3b30"/>
                </a:solidFill>
                <a:latin typeface="Franklin Gothic Book"/>
              </a:rPr>
              <a:t>Modelos de redes complexas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4e3b30"/>
                </a:solidFill>
                <a:latin typeface="Franklin Gothic Book"/>
              </a:rPr>
              <a:t>Rede social – A 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base de dados e o framework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Processo de caracterização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Mecanismo de Sugestão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698400" indent="-32220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Filtrar e ordenar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Conclusões e Trabalhos Futuros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 txBox="1"/>
          <p:nvPr/>
        </p:nvSpPr>
        <p:spPr>
          <a:xfrm>
            <a:off x="304920" y="1553760"/>
            <a:ext cx="8686800" cy="50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Índice 2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Mede a densidade de adjacência do conjunto medido no índice 1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Quão próximas estão estas pessoa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Para o exempo acima essa medida é 0,5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06" name="Picture 1" descr=""/>
          <p:cNvPicPr/>
          <p:nvPr/>
        </p:nvPicPr>
        <p:blipFill>
          <a:blip r:embed="rId2"/>
          <a:stretch/>
        </p:blipFill>
        <p:spPr>
          <a:xfrm>
            <a:off x="652320" y="2500200"/>
            <a:ext cx="3276720" cy="131472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3"/>
          <p:cNvSpPr/>
          <p:nvPr/>
        </p:nvSpPr>
        <p:spPr>
          <a:xfrm>
            <a:off x="45720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08" name="Picture 4" descr=""/>
          <p:cNvPicPr/>
          <p:nvPr/>
        </p:nvPicPr>
        <p:blipFill>
          <a:blip r:embed="rId3"/>
          <a:stretch/>
        </p:blipFill>
        <p:spPr>
          <a:xfrm>
            <a:off x="4689360" y="1428840"/>
            <a:ext cx="3767400" cy="285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 txBox="1"/>
          <p:nvPr/>
        </p:nvSpPr>
        <p:spPr>
          <a:xfrm>
            <a:off x="304920" y="1553760"/>
            <a:ext cx="8686800" cy="53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Índice 3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Mede a densidade de adjacência do conjunto união entre os dois sub-conjunto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 diferença para o segundo índice é que este considera distâncias geodésicas de tamanho 3, e não somente 2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12" name="Picture 1" descr=""/>
          <p:cNvPicPr/>
          <p:nvPr/>
        </p:nvPicPr>
        <p:blipFill>
          <a:blip r:embed="rId2"/>
          <a:stretch/>
        </p:blipFill>
        <p:spPr>
          <a:xfrm>
            <a:off x="785880" y="2428920"/>
            <a:ext cx="3276360" cy="132408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3"/>
          <p:cNvSpPr/>
          <p:nvPr/>
        </p:nvSpPr>
        <p:spPr>
          <a:xfrm>
            <a:off x="45720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515" name="Object 4"/>
          <p:cNvGraphicFramePr/>
          <p:nvPr/>
        </p:nvGraphicFramePr>
        <p:xfrm>
          <a:off x="4395960" y="1300320"/>
          <a:ext cx="4248000" cy="27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95960" y="1300320"/>
                    <a:ext cx="4248000" cy="2771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onderação otimizada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Utiliza os padrões existentes no conjunto de nós já relacionados ao nó central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Pequena mudança na etapa de filtrar para incluir os nós já relacionado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Utilização de uma função de otimização para calibrar os índice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unção de otimização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alcula a média da posição da classificação dos nós já relacionados ao nó centra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Quanto menor esse valor melhor os nós já relacionados estão sendo classificado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Os nós candidatos mais bem classificados seguem o mesmo padrão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 txBox="1"/>
          <p:nvPr/>
        </p:nvSpPr>
        <p:spPr>
          <a:xfrm>
            <a:off x="304920" y="1554120"/>
            <a:ext cx="868680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Nos experimentos a calibragem foi feita manualmente baseada na função de otimização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Resultados: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928800" y="3286080"/>
          <a:ext cx="7643880" cy="2127240"/>
        </p:xfrm>
        <a:graphic>
          <a:graphicData uri="http://schemas.openxmlformats.org/drawingml/2006/table">
            <a:tbl>
              <a:tblPr/>
              <a:tblGrid>
                <a:gridCol w="1143000"/>
                <a:gridCol w="1000080"/>
                <a:gridCol w="1000080"/>
                <a:gridCol w="1000080"/>
                <a:gridCol w="2000160"/>
                <a:gridCol w="15004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Sub-re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Peso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Peso 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Peso 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Qtd de vértices adjacentes ao vértice cent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Função de otimiz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Brasilei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13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6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ndi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-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-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5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72,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 txBox="1"/>
          <p:nvPr/>
        </p:nvSpPr>
        <p:spPr>
          <a:xfrm>
            <a:off x="304920" y="1760400"/>
            <a:ext cx="8686800" cy="47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O mecanismo de sugestão convergiu como esperado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O aprofundamento no entendimento de redes sociais abre possibilidades para aplicações comerciais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ugestor de produtos em redes de venda pela internet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Sugestor de filmes em rede de locadora, etc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Mehorias no mecanismo: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Implementação do mecanismo de calibragem automático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Melhoria e criação de mais índices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e3b30"/>
                </a:solidFill>
                <a:latin typeface="Franklin Gothic Book"/>
              </a:rPr>
              <a:t>Outras pesquisas: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Executar mais testes com sub redes de outras regiões geográficas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e3b30"/>
                </a:solidFill>
                <a:latin typeface="Franklin Gothic Book"/>
              </a:rPr>
              <a:t>Utilização do feedback do usuário como medida de ajuste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5" descr=""/>
          <p:cNvPicPr/>
          <p:nvPr/>
        </p:nvPicPr>
        <p:blipFill>
          <a:blip r:embed="rId1"/>
          <a:stretch/>
        </p:blipFill>
        <p:spPr>
          <a:xfrm>
            <a:off x="5072040" y="3714840"/>
            <a:ext cx="3371760" cy="2805120"/>
          </a:xfrm>
          <a:prstGeom prst="rect">
            <a:avLst/>
          </a:prstGeom>
          <a:ln w="9360">
            <a:solidFill>
              <a:srgbClr val="f0a22e"/>
            </a:solidFill>
            <a:miter/>
          </a:ln>
        </p:spPr>
      </p:pic>
      <p:pic>
        <p:nvPicPr>
          <p:cNvPr id="411" name="Título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ede Socia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omposição de usuários (nós) e relacionamentos (arestas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riação dos relacionamentos depende de esforço do usuário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Mecanismo simplista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Atividade repetitiva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3" name="Picture 4" descr=""/>
          <p:cNvPicPr/>
          <p:nvPr/>
        </p:nvPicPr>
        <p:blipFill>
          <a:blip r:embed="rId3"/>
          <a:stretch/>
        </p:blipFill>
        <p:spPr>
          <a:xfrm>
            <a:off x="5072040" y="3714840"/>
            <a:ext cx="3371760" cy="2805120"/>
          </a:xfrm>
          <a:prstGeom prst="rect">
            <a:avLst/>
          </a:prstGeom>
          <a:ln w="9360">
            <a:solidFill>
              <a:srgbClr val="f0a22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304920" y="1553760"/>
            <a:ext cx="3695760" cy="16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ecanismo inteligente de sugestão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6" name="Picture 2" descr=""/>
          <p:cNvPicPr/>
          <p:nvPr/>
        </p:nvPicPr>
        <p:blipFill>
          <a:blip r:embed="rId2"/>
          <a:stretch/>
        </p:blipFill>
        <p:spPr>
          <a:xfrm>
            <a:off x="3995640" y="1357200"/>
            <a:ext cx="4934160" cy="17859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" descr=""/>
          <p:cNvPicPr/>
          <p:nvPr/>
        </p:nvPicPr>
        <p:blipFill>
          <a:blip r:embed="rId3"/>
          <a:stretch/>
        </p:blipFill>
        <p:spPr>
          <a:xfrm>
            <a:off x="4079880" y="3976560"/>
            <a:ext cx="4849920" cy="2362320"/>
          </a:xfrm>
          <a:prstGeom prst="rect">
            <a:avLst/>
          </a:prstGeom>
          <a:ln w="0">
            <a:noFill/>
          </a:ln>
        </p:spPr>
      </p:pic>
      <p:sp>
        <p:nvSpPr>
          <p:cNvPr id="418" name="Elipse 7"/>
          <p:cNvSpPr/>
          <p:nvPr/>
        </p:nvSpPr>
        <p:spPr>
          <a:xfrm>
            <a:off x="6500880" y="1785960"/>
            <a:ext cx="1357200" cy="500040"/>
          </a:xfrm>
          <a:prstGeom prst="ellipse">
            <a:avLst/>
          </a:prstGeom>
          <a:noFill/>
          <a:ln w="19080">
            <a:solidFill>
              <a:srgbClr val="ff0000">
                <a:alpha val="5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9" name="Picture 6" descr=""/>
          <p:cNvPicPr/>
          <p:nvPr/>
        </p:nvPicPr>
        <p:blipFill>
          <a:blip r:embed="rId4"/>
          <a:stretch/>
        </p:blipFill>
        <p:spPr>
          <a:xfrm>
            <a:off x="4075200" y="3975120"/>
            <a:ext cx="4835520" cy="23558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7" descr=""/>
          <p:cNvPicPr/>
          <p:nvPr/>
        </p:nvPicPr>
        <p:blipFill>
          <a:blip r:embed="rId5"/>
          <a:stretch/>
        </p:blipFill>
        <p:spPr>
          <a:xfrm>
            <a:off x="4071960" y="3975120"/>
            <a:ext cx="4835520" cy="2355840"/>
          </a:xfrm>
          <a:prstGeom prst="rect">
            <a:avLst/>
          </a:prstGeom>
          <a:ln w="0">
            <a:noFill/>
          </a:ln>
        </p:spPr>
      </p:pic>
      <p:sp>
        <p:nvSpPr>
          <p:cNvPr id="421" name="Espaço Reservado para Conteúdo 2"/>
          <p:cNvSpPr/>
          <p:nvPr/>
        </p:nvSpPr>
        <p:spPr>
          <a:xfrm>
            <a:off x="285840" y="3286080"/>
            <a:ext cx="369576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Benefícios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Particular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2574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Crescimento rápido da rede socia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e3b30"/>
                </a:solidFill>
                <a:latin typeface="Franklin Gothic Book"/>
              </a:rPr>
              <a:t>Comunitário</a:t>
            </a:r>
            <a:endParaRPr b="0" lang="en-US" sz="27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2574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Facilita o crescimento de todas rede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04560" y="1554120"/>
            <a:ext cx="819612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4e3b30"/>
                </a:solidFill>
                <a:latin typeface="Franklin Gothic Book"/>
              </a:rPr>
              <a:t>Análise dos padrões de relacionamento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4" name="Picture 5" descr=""/>
          <p:cNvPicPr/>
          <p:nvPr/>
        </p:nvPicPr>
        <p:blipFill>
          <a:blip r:embed="rId2"/>
          <a:stretch/>
        </p:blipFill>
        <p:spPr>
          <a:xfrm>
            <a:off x="3357720" y="3929040"/>
            <a:ext cx="5494320" cy="2676600"/>
          </a:xfrm>
          <a:prstGeom prst="rect">
            <a:avLst/>
          </a:prstGeom>
          <a:ln w="0">
            <a:noFill/>
          </a:ln>
        </p:spPr>
      </p:pic>
      <p:sp>
        <p:nvSpPr>
          <p:cNvPr id="425" name="Espaço Reservado para Conteúdo 2"/>
          <p:cNvSpPr/>
          <p:nvPr/>
        </p:nvSpPr>
        <p:spPr>
          <a:xfrm>
            <a:off x="457200" y="2143080"/>
            <a:ext cx="32576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Verificar padrões existentes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3"/>
          <a:stretch/>
        </p:blipFill>
        <p:spPr>
          <a:xfrm>
            <a:off x="3357720" y="3929040"/>
            <a:ext cx="5500440" cy="2679840"/>
          </a:xfrm>
          <a:prstGeom prst="rect">
            <a:avLst/>
          </a:prstGeom>
          <a:ln w="0">
            <a:noFill/>
          </a:ln>
        </p:spPr>
      </p:pic>
      <p:sp>
        <p:nvSpPr>
          <p:cNvPr id="427" name="Espaço Reservado para Conteúdo 2"/>
          <p:cNvSpPr/>
          <p:nvPr/>
        </p:nvSpPr>
        <p:spPr>
          <a:xfrm>
            <a:off x="5143680" y="2143080"/>
            <a:ext cx="32572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Sugerir nós que seguem o padrão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8" name="Picture 6" descr=""/>
          <p:cNvPicPr/>
          <p:nvPr/>
        </p:nvPicPr>
        <p:blipFill>
          <a:blip r:embed="rId4"/>
          <a:stretch/>
        </p:blipFill>
        <p:spPr>
          <a:xfrm>
            <a:off x="3357720" y="3929040"/>
            <a:ext cx="5478480" cy="2668680"/>
          </a:xfrm>
          <a:prstGeom prst="rect">
            <a:avLst/>
          </a:prstGeom>
          <a:ln w="0">
            <a:noFill/>
          </a:ln>
        </p:spPr>
      </p:pic>
      <p:sp>
        <p:nvSpPr>
          <p:cNvPr id="429" name="Espaço Reservado para Conteúdo 2"/>
          <p:cNvSpPr/>
          <p:nvPr/>
        </p:nvSpPr>
        <p:spPr>
          <a:xfrm>
            <a:off x="285840" y="3929040"/>
            <a:ext cx="30002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Quais padrões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entativa de modelar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fenômenos naturais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em estruturas de red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Cérebro, colônia de formigas, células biológicas, internet, redes sociais, etc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volução dos modelos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Randômico (50’s) por </a:t>
            </a: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Erodos e Rényi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Franklin Gothic Book"/>
              </a:rPr>
              <a:t>Small world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 (1998) por </a:t>
            </a: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Watts e Strogatz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e3b30"/>
                </a:solidFill>
                <a:latin typeface="Franklin Gothic Book"/>
              </a:rPr>
              <a:t>Scale free 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(1999) por </a:t>
            </a: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Barabási e Albert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odelos caracterizados pela forma em que são criados e pelos vários resultados estatístico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lgumas métricas estatísticas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Grau de um nó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Distribuição do grau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4" name="Imagem 3" descr=""/>
          <p:cNvPicPr/>
          <p:nvPr/>
        </p:nvPicPr>
        <p:blipFill>
          <a:blip r:embed="rId2"/>
          <a:stretch/>
        </p:blipFill>
        <p:spPr>
          <a:xfrm>
            <a:off x="4410000" y="4000680"/>
            <a:ext cx="4448160" cy="21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oeficiente de agrupamento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35480" indent="-28296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4e3b30"/>
                </a:solidFill>
                <a:latin typeface="Franklin Gothic Book"/>
              </a:rPr>
              <a:t>É a probabilidade média de que dois nós vizinhos de outro dado nó são também vizinhos entre si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35480" indent="-28296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35480" indent="-28296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35480" indent="-28296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ropriedade observada com valor grande no mundo rea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8" name="Picture 1" descr=""/>
          <p:cNvPicPr/>
          <p:nvPr/>
        </p:nvPicPr>
        <p:blipFill>
          <a:blip r:embed="rId2"/>
          <a:stretch/>
        </p:blipFill>
        <p:spPr>
          <a:xfrm>
            <a:off x="1849320" y="3286080"/>
            <a:ext cx="5294520" cy="121464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3"/>
          <p:cNvSpPr/>
          <p:nvPr/>
        </p:nvSpPr>
        <p:spPr>
          <a:xfrm>
            <a:off x="0" y="127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Espaço Reservado para Conteúdo 2"/>
          <p:cNvSpPr/>
          <p:nvPr/>
        </p:nvSpPr>
        <p:spPr>
          <a:xfrm>
            <a:off x="3000240" y="5500800"/>
            <a:ext cx="60008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i="1" lang="pt-BR" sz="2000" spc="-1" strike="noStrike">
                <a:solidFill>
                  <a:srgbClr val="4e3b30"/>
                </a:solidFill>
                <a:latin typeface="Franklin Gothic Book"/>
              </a:rPr>
              <a:t>É mais provável você conhecer um amigo dos seus amigos do que qualquer outra pessoa aleatoriamente” Melanie Mitchel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Título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304920" y="1553760"/>
            <a:ext cx="868680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Regra de criação: Cada par de nós está conectado com um probabilidade </a:t>
            </a:r>
            <a:r>
              <a:rPr b="0" i="1" lang="en-US" sz="3000" spc="-1" strike="noStrike">
                <a:solidFill>
                  <a:srgbClr val="4e3b30"/>
                </a:solidFill>
                <a:latin typeface="Franklin Gothic Book"/>
              </a:rPr>
              <a:t>p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 uniforme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As propriedades chaves mostraram ser totalmente diferentes das observadas no mundo real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5143680" y="2643120"/>
            <a:ext cx="3551040" cy="2581200"/>
          </a:xfrm>
          <a:prstGeom prst="rect">
            <a:avLst/>
          </a:prstGeom>
          <a:ln w="0">
            <a:noFill/>
          </a:ln>
        </p:spPr>
      </p:pic>
      <p:sp>
        <p:nvSpPr>
          <p:cNvPr id="444" name="Espaço Reservado para Conteúdo 2"/>
          <p:cNvSpPr/>
          <p:nvPr/>
        </p:nvSpPr>
        <p:spPr>
          <a:xfrm>
            <a:off x="314280" y="2857680"/>
            <a:ext cx="454356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A distribuição do grau é aproximadamente Gaussian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O coeficiente de agrupamento é exatamente </a:t>
            </a:r>
            <a:r>
              <a:rPr b="0" i="1" lang="en-US" sz="2400" spc="-1" strike="noStrike">
                <a:solidFill>
                  <a:srgbClr val="4e3b30"/>
                </a:solidFill>
                <a:latin typeface="Franklin Gothic Book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15:46:27Z</dcterms:created>
  <dc:creator>Nitai</dc:creator>
  <dc:description/>
  <dc:language>en-US</dc:language>
  <cp:lastModifiedBy>pucpr</cp:lastModifiedBy>
  <dcterms:modified xsi:type="dcterms:W3CDTF">2009-03-09T21:08:03Z</dcterms:modified>
  <cp:revision>135</cp:revision>
  <dc:subject/>
  <dc:title>Mecanismo de sugestão e processo de caracterização de redes sociais</dc:title>
</cp:coreProperties>
</file>